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7FCD1-EAAF-43A0-9B45-3CEAF073BB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D8997-16FB-4C90-9F62-E4F033618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E84253-9498-4139-A988-E75DEB67BF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409865-3249-4734-919F-35AD3FA6D6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F165F-98C7-4CF9-B776-5C87CAF58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03E53-9D78-458D-BE8A-938BB4C15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89371-5E44-468A-ACF6-53C8F74ED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0A01C-0990-41FF-AA2A-A409821AD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F5021-A55A-4F50-8594-C66211545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C352C-6851-4216-8D1E-DEAD15161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F6560-C9B3-454D-8CEF-0E60DBFF5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0EC44-7F83-4B05-B394-15064301A9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4FB59-FFA4-4947-A20B-3E726ACF16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Times New Roman"/>
              </a:rPr>
              <a:t>IAFA/ACCA Seminar</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Times New Roman"/>
              </a:rPr>
              <a:t>University College Dublin</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Times New Roman"/>
              </a:rPr>
              <a:t>22 November 2003</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609120"/>
            <a:ext cx="8153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Times New Roman"/>
              </a:rPr>
              <a:t>Auditors’ Reporting Obligations (5)</a:t>
            </a:r>
            <a:endParaRPr b="0" lang="en-US" sz="4000" spc="-1" strike="noStrike">
              <a:solidFill>
                <a:srgbClr val="000000"/>
              </a:solidFill>
              <a:latin typeface="Times New Roman"/>
            </a:endParaRPr>
          </a:p>
        </p:txBody>
      </p:sp>
      <p:sp>
        <p:nvSpPr>
          <p:cNvPr id="60" name="PlaceHolder 2"/>
          <p:cNvSpPr>
            <a:spLocks noGrp="1"/>
          </p:cNvSpPr>
          <p:nvPr>
            <p:ph/>
          </p:nvPr>
        </p:nvSpPr>
        <p:spPr>
          <a:xfrm>
            <a:off x="685440" y="1752480"/>
            <a:ext cx="8001000" cy="3657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imes New Roman"/>
              </a:rPr>
              <a:t>Performances/Interpretations by Audito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Reporting improvement after ODCE contac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Differences in approach on non-filing offences, e.g., ‘wilful knowledge’ offenc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One firm’s reports account for &gt;80% of all reports of one offence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Quality of information supplied is varia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380520"/>
            <a:ext cx="8153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Times New Roman"/>
              </a:rPr>
              <a:t>Auditors’ Reporting Obligations (6)</a:t>
            </a:r>
            <a:endParaRPr b="0" lang="en-US" sz="4000" spc="-1" strike="noStrike">
              <a:solidFill>
                <a:srgbClr val="000000"/>
              </a:solidFill>
              <a:latin typeface="Times New Roman"/>
            </a:endParaRPr>
          </a:p>
        </p:txBody>
      </p:sp>
      <p:sp>
        <p:nvSpPr>
          <p:cNvPr id="62" name="PlaceHolder 2"/>
          <p:cNvSpPr>
            <a:spLocks noGrp="1"/>
          </p:cNvSpPr>
          <p:nvPr>
            <p:ph/>
          </p:nvPr>
        </p:nvSpPr>
        <p:spPr>
          <a:xfrm>
            <a:off x="456840" y="1219320"/>
            <a:ext cx="838188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imes New Roman"/>
              </a:rPr>
              <a:t>Overall View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Good Awareness by Auditors of Obligation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Uniform Interpretation of Obligations not yet achieved</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Reporting of Few Offence Types is disappointing</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Filing Defaults should not be reported to ODCE at all</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Culture Change in Auditor/Client Relation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Positive Impact on Auditor Independenc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Positive Impact in reinforcing Compliance Messa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6091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Times New Roman"/>
              </a:rPr>
              <a:t>Public and Other Complaints (1)</a:t>
            </a:r>
            <a:endParaRPr b="0" lang="en-US" sz="4400" spc="-1" strike="noStrike">
              <a:solidFill>
                <a:srgbClr val="000000"/>
              </a:solidFill>
              <a:latin typeface="Times New Roman"/>
            </a:endParaRPr>
          </a:p>
        </p:txBody>
      </p:sp>
      <p:sp>
        <p:nvSpPr>
          <p:cNvPr id="64" name="PlaceHolder 2"/>
          <p:cNvSpPr>
            <a:spLocks noGrp="1"/>
          </p:cNvSpPr>
          <p:nvPr>
            <p:ph/>
          </p:nvPr>
        </p:nvSpPr>
        <p:spPr>
          <a:xfrm>
            <a:off x="456840" y="1828800"/>
            <a:ext cx="8001000" cy="358128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ublic Complaints</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ports:  </a:t>
            </a:r>
            <a:r>
              <a:rPr b="0" lang="en-GB" sz="2800" spc="-1" strike="noStrike">
                <a:solidFill>
                  <a:srgbClr val="000000"/>
                </a:solidFill>
                <a:latin typeface="Times New Roman"/>
              </a:rPr>
              <a:t>	</a:t>
            </a:r>
            <a:r>
              <a:rPr b="0" lang="en-GB" sz="2800" spc="-1" strike="noStrike">
                <a:solidFill>
                  <a:srgbClr val="000000"/>
                </a:solidFill>
                <a:latin typeface="Times New Roman"/>
              </a:rPr>
              <a:t>200 in 2002; 270 so far in 2003</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ssues:  </a:t>
            </a:r>
            <a:r>
              <a:rPr b="0" lang="en-GB" sz="2800" spc="-1" strike="noStrike">
                <a:solidFill>
                  <a:srgbClr val="000000"/>
                </a:solidFill>
                <a:latin typeface="Times New Roman"/>
              </a:rPr>
              <a:t>	</a:t>
            </a:r>
            <a:r>
              <a:rPr b="0" lang="en-GB" sz="2800" spc="-1" strike="noStrike">
                <a:solidFill>
                  <a:srgbClr val="000000"/>
                </a:solidFill>
                <a:latin typeface="Times New Roman"/>
              </a:rPr>
              <a:t>35% disclose no Company Law Issues</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21% relate to Civil Matters/Debt Issues</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15% are filing defaults</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29% cover a range of issues (e.g., AGMs)</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ctions:</a:t>
            </a:r>
            <a:r>
              <a:rPr b="0" lang="en-GB" sz="2800" spc="-1" strike="noStrike">
                <a:solidFill>
                  <a:srgbClr val="000000"/>
                </a:solidFill>
                <a:latin typeface="Times New Roman"/>
              </a:rPr>
              <a:t>	</a:t>
            </a:r>
            <a:r>
              <a:rPr b="0" lang="en-GB" sz="2800" spc="-1" strike="noStrike">
                <a:solidFill>
                  <a:srgbClr val="000000"/>
                </a:solidFill>
                <a:latin typeface="Times New Roman"/>
              </a:rPr>
              <a:t>Many closed, others being assess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60912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Times New Roman"/>
              </a:rPr>
              <a:t>Public and Other Complaints (2)</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523520"/>
            <a:ext cx="7772400" cy="4038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Matters of Public Recor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ribunal of Inquiry/Inspector Repor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edia Disclosur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RO Databas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nter-Agency Co-operation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Garda Siochan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OUs planned with Revenue, IFSRA,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6091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Times New Roman"/>
              </a:rPr>
              <a:t>Public and Other Complaints (3)</a:t>
            </a:r>
            <a:endParaRPr b="0" lang="en-US" sz="4400" spc="-1" strike="noStrike">
              <a:solidFill>
                <a:srgbClr val="000000"/>
              </a:solidFill>
              <a:latin typeface="Times New Roman"/>
            </a:endParaRPr>
          </a:p>
        </p:txBody>
      </p:sp>
      <p:sp>
        <p:nvSpPr>
          <p:cNvPr id="68" name="PlaceHolder 2"/>
          <p:cNvSpPr>
            <a:spLocks noGrp="1"/>
          </p:cNvSpPr>
          <p:nvPr>
            <p:ph/>
          </p:nvPr>
        </p:nvSpPr>
        <p:spPr>
          <a:xfrm>
            <a:off x="457200" y="1981080"/>
            <a:ext cx="8305920" cy="3200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imes New Roman"/>
              </a:rPr>
              <a:t>Overall View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Many Public Complaints are resource-intensiv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Relevant Complaints disclose real concer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Information-sharing yet to be fully exploi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6091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Times New Roman"/>
              </a:rPr>
              <a:t>Liquidators’ Reporting Obligations (1)</a:t>
            </a:r>
            <a:endParaRPr b="0" lang="en-US" sz="4000" spc="-1" strike="noStrike">
              <a:solidFill>
                <a:srgbClr val="000000"/>
              </a:solidFill>
              <a:latin typeface="Times New Roman"/>
            </a:endParaRPr>
          </a:p>
        </p:txBody>
      </p:sp>
      <p:sp>
        <p:nvSpPr>
          <p:cNvPr id="7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t>
            </a:r>
            <a:r>
              <a:rPr b="0" lang="en-IE" sz="2000" spc="-1" strike="noStrike">
                <a:solidFill>
                  <a:srgbClr val="000000"/>
                </a:solidFill>
                <a:latin typeface="Times New Roman"/>
              </a:rPr>
              <a:t>(1) A liquidator of an insolvent company shall, within 6 months after his or her appointment or the commencement of this section, whichever is the later, and at intervals as required by the Director thereafter, provide to the Director a report in the prescribed form.</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2) A liquidator of an insolvent company shall, not earlier than 3 months nor later than 5 months (or such later time as the court may allow and advises the Director) after the date on which he or she has provided to the Director a report under subsection (1), apply to the court for the restriction under section 150 of the Act of 1990 of each of the directors of the company, unless the Director has relieved the liquidator of the obligation to make such an application.”</a:t>
            </a:r>
            <a:endParaRPr b="0" lang="en-US" sz="2000" spc="-1" strike="noStrike">
              <a:solidFill>
                <a:srgbClr val="000000"/>
              </a:solidFill>
              <a:latin typeface="Times New Roman"/>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Times New Roman"/>
              </a:rPr>
              <a:t>- S.56(1) and (2), Company Law Enforcement Act 200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6091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Times New Roman"/>
              </a:rPr>
              <a:t>Liquidators’ Reporting Obligations (2)</a:t>
            </a:r>
            <a:endParaRPr b="0" lang="en-US" sz="4000" spc="-1" strike="noStrike">
              <a:solidFill>
                <a:srgbClr val="000000"/>
              </a:solidFill>
              <a:latin typeface="Times New Roman"/>
            </a:endParaRPr>
          </a:p>
        </p:txBody>
      </p:sp>
      <p:sp>
        <p:nvSpPr>
          <p:cNvPr id="72" name="PlaceHolder 2"/>
          <p:cNvSpPr>
            <a:spLocks noGrp="1"/>
          </p:cNvSpPr>
          <p:nvPr>
            <p:ph/>
          </p:nvPr>
        </p:nvSpPr>
        <p:spPr>
          <a:xfrm>
            <a:off x="685800" y="1600200"/>
            <a:ext cx="7772400" cy="3733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Times New Roman"/>
              </a:rPr>
              <a:t>What gives rise to restriction?</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Where the High Court is not satisfied that a director has acted honestly and responsibly in conducting the company’s affairs.</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Times New Roman"/>
              </a:rPr>
              <a:t>What is the effect of restriction?</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 person may not act, directly or indirectly, as a director, etc., unless the company is adequately capitalised.  For a private company, the minimum paid-up share capital sum is €63,487.  The equivalent figure for a public company is €317,435.  Both must be fully paid for in cash. </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Times New Roman"/>
              </a:rPr>
              <a:t>What is the effect of disqualification?</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Disqualification involves an absolute ban for five years or mo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6091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Times New Roman"/>
              </a:rPr>
              <a:t>Liquidators’ Reporting Obligations (3)</a:t>
            </a:r>
            <a:endParaRPr b="0" lang="en-US" sz="4000" spc="-1" strike="noStrike">
              <a:solidFill>
                <a:srgbClr val="000000"/>
              </a:solidFill>
              <a:latin typeface="Times New Roman"/>
            </a:endParaRPr>
          </a:p>
        </p:txBody>
      </p:sp>
      <p:sp>
        <p:nvSpPr>
          <p:cNvPr id="74" name="PlaceHolder 2"/>
          <p:cNvSpPr>
            <a:spLocks noGrp="1"/>
          </p:cNvSpPr>
          <p:nvPr>
            <p:ph/>
          </p:nvPr>
        </p:nvSpPr>
        <p:spPr>
          <a:xfrm>
            <a:off x="685800" y="1676520"/>
            <a:ext cx="7772400" cy="3657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imes New Roman"/>
              </a:rPr>
              <a:t>Phased Commenceme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imes New Roman"/>
              </a:rPr>
              <a:t>1 June 2002</a:t>
            </a:r>
            <a:r>
              <a:rPr b="0" lang="en-IE" sz="3200" spc="-1" strike="noStrike">
                <a:solidFill>
                  <a:srgbClr val="000000"/>
                </a:solidFill>
                <a:latin typeface="Times New Roman"/>
              </a:rPr>
              <a:t>: insolvent companies to which a liquidator was newly appointed or was appointed on or after 1 July 2001</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imes New Roman"/>
              </a:rPr>
              <a:t>1 June 2003</a:t>
            </a:r>
            <a:r>
              <a:rPr b="0" lang="en-IE" sz="3200" spc="-1" strike="noStrike">
                <a:solidFill>
                  <a:srgbClr val="000000"/>
                </a:solidFill>
                <a:latin typeface="Times New Roman"/>
              </a:rPr>
              <a:t>: insolvent companies to which a liquidator was appointed on or after 1 January 20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60948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Times New Roman"/>
              </a:rPr>
              <a:t>Liquidators’ Reporting Obligations (4)</a:t>
            </a:r>
            <a:endParaRPr b="0" lang="en-US" sz="4000" spc="-1" strike="noStrike">
              <a:solidFill>
                <a:srgbClr val="000000"/>
              </a:solidFill>
              <a:latin typeface="Times New Roman"/>
            </a:endParaRPr>
          </a:p>
        </p:txBody>
      </p:sp>
      <p:sp>
        <p:nvSpPr>
          <p:cNvPr id="76" name="PlaceHolder 2"/>
          <p:cNvSpPr>
            <a:spLocks noGrp="1"/>
          </p:cNvSpPr>
          <p:nvPr>
            <p:ph/>
          </p:nvPr>
        </p:nvSpPr>
        <p:spPr>
          <a:xfrm>
            <a:off x="685800" y="1599840"/>
            <a:ext cx="77724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Volumes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2002</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2003 so fa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iquidator Reports</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300</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430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ses Determined</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4</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533</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ull Relief</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4</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285 (53%)</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artial Relief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24 (4.5%)</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lief at this time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31 (5.8%)</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 Relief</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187 (3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38088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Times New Roman"/>
              </a:rPr>
              <a:t>Liquidators’ Reporting Obligations (5)</a:t>
            </a:r>
            <a:endParaRPr b="0" lang="en-US" sz="4000" spc="-1" strike="noStrike">
              <a:solidFill>
                <a:srgbClr val="000000"/>
              </a:solidFill>
              <a:latin typeface="Times New Roman"/>
            </a:endParaRPr>
          </a:p>
        </p:txBody>
      </p:sp>
      <p:sp>
        <p:nvSpPr>
          <p:cNvPr id="78" name="PlaceHolder 2"/>
          <p:cNvSpPr>
            <a:spLocks noGrp="1"/>
          </p:cNvSpPr>
          <p:nvPr>
            <p:ph/>
          </p:nvPr>
        </p:nvSpPr>
        <p:spPr>
          <a:xfrm>
            <a:off x="685800" y="1294920"/>
            <a:ext cx="7772400" cy="39625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imes New Roman"/>
              </a:rPr>
              <a:t>Character of Liquidator Reports (Sample of 300)</a:t>
            </a:r>
            <a:r>
              <a:rPr b="1" lang="en-IE" sz="2400" spc="-1" strike="noStrike">
                <a:solidFill>
                  <a:srgbClr val="000000"/>
                </a:solidFill>
                <a:latin typeface="Times New Roman"/>
              </a:rPr>
              <a:t> </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130-150 recommended restriction.  Example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Continued trading, where there was no reasonable prospect of the company’s survival</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ailure to keep proper books of account</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Excessive directors’ loans</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bout 50 of these also suggested serious misconduct, e.g:</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raudulent trading/fraudulent preference</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Removal of property,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480"/>
            <a:ext cx="769608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Times New Roman"/>
              </a:rPr>
              <a:t>Initial Experiences in Company Law Investigations and Enforcement</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3962520"/>
            <a:ext cx="7772400" cy="1295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imes New Roman"/>
              </a:rPr>
              <a:t>Paul Appleby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imes New Roman"/>
              </a:rPr>
              <a:t>Director of Corporate Enforc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6091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Times New Roman"/>
              </a:rPr>
              <a:t>Liquidators’ Reporting Obligations (6)</a:t>
            </a:r>
            <a:endParaRPr b="0" lang="en-US" sz="4000" spc="-1" strike="noStrike">
              <a:solidFill>
                <a:srgbClr val="000000"/>
              </a:solidFill>
              <a:latin typeface="Times New Roman"/>
            </a:endParaRPr>
          </a:p>
        </p:txBody>
      </p:sp>
      <p:sp>
        <p:nvSpPr>
          <p:cNvPr id="80" name="PlaceHolder 2"/>
          <p:cNvSpPr>
            <a:spLocks noGrp="1"/>
          </p:cNvSpPr>
          <p:nvPr>
            <p:ph/>
          </p:nvPr>
        </p:nvSpPr>
        <p:spPr>
          <a:xfrm>
            <a:off x="685800" y="1752480"/>
            <a:ext cx="777240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imes New Roman"/>
              </a:rPr>
              <a:t>Initial Impact of Reg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Several hundred directors are currently facing restriction proceedings by the liquidato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Up to 30% are acquiescing in the restri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A majority of those who defend the proceedings are convincing the Court that they should not be restric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45720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Times New Roman"/>
              </a:rPr>
              <a:t>Liquidators’ Reporting Obligations (7)</a:t>
            </a:r>
            <a:endParaRPr b="0" lang="en-US" sz="4000" spc="-1" strike="noStrike">
              <a:solidFill>
                <a:srgbClr val="000000"/>
              </a:solidFill>
              <a:latin typeface="Times New Roman"/>
            </a:endParaRPr>
          </a:p>
        </p:txBody>
      </p:sp>
      <p:sp>
        <p:nvSpPr>
          <p:cNvPr id="82" name="PlaceHolder 2"/>
          <p:cNvSpPr>
            <a:spLocks noGrp="1"/>
          </p:cNvSpPr>
          <p:nvPr>
            <p:ph/>
          </p:nvPr>
        </p:nvSpPr>
        <p:spPr>
          <a:xfrm>
            <a:off x="304920" y="1295280"/>
            <a:ext cx="853416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imes New Roman"/>
              </a:rPr>
              <a:t>Overall Views</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Different Character to Liquidators Reports/Few S.299 Repor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Creditors report success – directors investing funds to avoid the restriction proce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Some evidence also of directors seeking to evade accountability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ODCE countering this trend with planned actions against the directors of unliquidated insolvent and ‘struck-off’ compan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High Court decisions laying more emphasis on dishonesty than irresponsibility of directors’ condu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808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Investigation Approaches (1)</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447920"/>
            <a:ext cx="7772400" cy="4038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imes New Roman"/>
              </a:rPr>
              <a:t>Approaches to Investigation</a:t>
            </a:r>
            <a:endParaRPr b="0" lang="en-US" sz="32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Correspondence/Discuss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Seeking Original Documen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Taking of Statements</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imes New Roman"/>
              </a:rPr>
              <a:t>Non-Legal Outcomes to Investigations</a:t>
            </a:r>
            <a:endParaRPr b="0" lang="en-US" sz="32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File Closur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Referral to Other Authoriti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Warning Lette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Investigation Approaches (2)</a:t>
            </a:r>
            <a:endParaRPr b="0" lang="en-US" sz="4400" spc="-1" strike="noStrike">
              <a:solidFill>
                <a:srgbClr val="000000"/>
              </a:solidFill>
              <a:latin typeface="Times New Roman"/>
            </a:endParaRPr>
          </a:p>
        </p:txBody>
      </p:sp>
      <p:sp>
        <p:nvSpPr>
          <p:cNvPr id="86" name="PlaceHolder 2"/>
          <p:cNvSpPr>
            <a:spLocks noGrp="1"/>
          </p:cNvSpPr>
          <p:nvPr>
            <p:ph/>
          </p:nvPr>
        </p:nvSpPr>
        <p:spPr>
          <a:xfrm>
            <a:off x="456840" y="1980720"/>
            <a:ext cx="8001000" cy="3429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imes New Roman"/>
              </a:rPr>
              <a:t>Warning Letters re Failure to Hold EG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700 will issue next week to the directors, auditors and company secretaries of 95 compani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imes New Roman"/>
              </a:rPr>
              <a:t>Variable Approach planned on Directors’ Loa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Last main area for concerted attention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imes New Roman"/>
              </a:rPr>
              <a:t>Some Individual Issues absorb Time/Resour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Investigation Approaches (3)</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327672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imes New Roman"/>
              </a:rPr>
              <a:t>Legal Powers Used</a:t>
            </a:r>
            <a:r>
              <a:rPr b="1" lang="en-IE" sz="3200" spc="-1" strike="noStrike">
                <a:solidFill>
                  <a:srgbClr val="000000"/>
                </a:solidFill>
                <a:latin typeface="Times New Roman"/>
              </a:rPr>
              <a:t>	</a:t>
            </a:r>
            <a:r>
              <a:rPr b="1" lang="en-IE" sz="3200" spc="-1" strike="noStrike">
                <a:solidFill>
                  <a:srgbClr val="000000"/>
                </a:solidFill>
                <a:latin typeface="Times New Roman"/>
              </a:rPr>
              <a:t>2002</a:t>
            </a:r>
            <a:r>
              <a:rPr b="1" lang="en-IE" sz="3200" spc="-1" strike="noStrike">
                <a:solidFill>
                  <a:srgbClr val="000000"/>
                </a:solidFill>
                <a:latin typeface="Times New Roman"/>
              </a:rPr>
              <a:t>	</a:t>
            </a:r>
            <a:r>
              <a:rPr b="1" lang="en-IE" sz="3200" spc="-1" strike="noStrike">
                <a:solidFill>
                  <a:srgbClr val="000000"/>
                </a:solidFill>
                <a:latin typeface="Times New Roman"/>
              </a:rPr>
              <a:t>	</a:t>
            </a:r>
            <a:r>
              <a:rPr b="1" lang="en-IE" sz="3200" spc="-1" strike="noStrike">
                <a:solidFill>
                  <a:srgbClr val="000000"/>
                </a:solidFill>
                <a:latin typeface="Times New Roman"/>
              </a:rPr>
              <a:t>2003 so far</a:t>
            </a: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Search Warrants  </a:t>
            </a:r>
            <a:r>
              <a:rPr b="0" lang="en-IE" sz="3200" spc="-1" strike="noStrike">
                <a:solidFill>
                  <a:srgbClr val="000000"/>
                </a:solidFill>
                <a:latin typeface="Times New Roman"/>
              </a:rPr>
              <a:t>	</a:t>
            </a:r>
            <a:r>
              <a:rPr b="0" lang="en-IE" sz="3200" spc="-1" strike="noStrike">
                <a:solidFill>
                  <a:srgbClr val="000000"/>
                </a:solidFill>
                <a:latin typeface="Times New Roman"/>
              </a:rPr>
              <a:t>   5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10</a:t>
            </a: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Bankers’ Books</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7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13 </a:t>
            </a: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Arrests</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7</a:t>
            </a: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Detentions</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4</a:t>
            </a: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Investigation Approaches (4)</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676160"/>
            <a:ext cx="7772400" cy="380988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imes New Roman"/>
              </a:rPr>
              <a:t>Civil Enforcement</a:t>
            </a:r>
            <a:r>
              <a:rPr b="1" lang="en-IE" sz="3200" spc="-1" strike="noStrike">
                <a:solidFill>
                  <a:srgbClr val="000000"/>
                </a:solidFill>
                <a:latin typeface="Times New Roman"/>
              </a:rPr>
              <a:t>	</a:t>
            </a:r>
            <a:r>
              <a:rPr b="1" lang="en-IE" sz="3200" spc="-1" strike="noStrike">
                <a:solidFill>
                  <a:srgbClr val="000000"/>
                </a:solidFill>
                <a:latin typeface="Times New Roman"/>
              </a:rPr>
              <a:t>2002</a:t>
            </a:r>
            <a:r>
              <a:rPr b="1" lang="en-IE" sz="3200" spc="-1" strike="noStrike">
                <a:solidFill>
                  <a:srgbClr val="000000"/>
                </a:solidFill>
                <a:latin typeface="Times New Roman"/>
              </a:rPr>
              <a:t>	</a:t>
            </a:r>
            <a:r>
              <a:rPr b="1" lang="en-IE" sz="3200" spc="-1" strike="noStrike">
                <a:solidFill>
                  <a:srgbClr val="000000"/>
                </a:solidFill>
                <a:latin typeface="Times New Roman"/>
              </a:rPr>
              <a:t>	</a:t>
            </a:r>
            <a:r>
              <a:rPr b="1" lang="en-IE" sz="3200" spc="-1" strike="noStrike">
                <a:solidFill>
                  <a:srgbClr val="000000"/>
                </a:solidFill>
                <a:latin typeface="Times New Roman"/>
              </a:rPr>
              <a:t>2003 so far</a:t>
            </a: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Compliance Orders</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10</a:t>
            </a: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Disqualifications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1</a:t>
            </a: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Property Seizures</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1</a:t>
            </a: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Seeking Information</a:t>
            </a:r>
            <a:r>
              <a:rPr b="0" lang="en-IE" sz="3200" spc="-1" strike="noStrike">
                <a:solidFill>
                  <a:srgbClr val="000000"/>
                </a:solidFill>
                <a:latin typeface="Times New Roman"/>
              </a:rPr>
              <a:t>	</a:t>
            </a:r>
            <a:r>
              <a:rPr b="0" lang="en-IE" sz="3200" spc="-1" strike="noStrike">
                <a:solidFill>
                  <a:srgbClr val="000000"/>
                </a:solidFill>
                <a:latin typeface="Times New Roman"/>
              </a:rPr>
              <a:t>   2</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Judicial Review</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1</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Investigation Approaches (5)</a:t>
            </a:r>
            <a:endParaRPr b="0" lang="en-US" sz="4400" spc="-1" strike="noStrike">
              <a:solidFill>
                <a:srgbClr val="000000"/>
              </a:solidFill>
              <a:latin typeface="Times New Roman"/>
            </a:endParaRPr>
          </a:p>
        </p:txBody>
      </p:sp>
      <p:sp>
        <p:nvSpPr>
          <p:cNvPr id="92" name="PlaceHolder 2"/>
          <p:cNvSpPr>
            <a:spLocks noGrp="1"/>
          </p:cNvSpPr>
          <p:nvPr>
            <p:ph/>
          </p:nvPr>
        </p:nvSpPr>
        <p:spPr>
          <a:xfrm>
            <a:off x="380880" y="1981080"/>
            <a:ext cx="8382240" cy="36576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riminal Enforcemen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2002</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2003 so far</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victions: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20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40+ </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ffences:  </a:t>
            </a:r>
            <a:r>
              <a:rPr b="0" lang="en-GB" sz="2800" spc="-1" strike="noStrike">
                <a:solidFill>
                  <a:srgbClr val="000000"/>
                </a:solidFill>
                <a:latin typeface="Times New Roman"/>
              </a:rPr>
              <a:t>	</a:t>
            </a:r>
            <a:r>
              <a:rPr b="0" lang="en-GB" sz="2800" spc="-1" strike="noStrike">
                <a:solidFill>
                  <a:srgbClr val="000000"/>
                </a:solidFill>
                <a:latin typeface="Times New Roman"/>
              </a:rPr>
              <a:t>Failing to Keep Proper Books</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Falsification of Documents</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Undischarged Bankrupts</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Directors’ Loans</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Unqualified Auditor</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Investigation Approaches (6)</a:t>
            </a:r>
            <a:endParaRPr b="0" lang="en-US" sz="4400" spc="-1" strike="noStrike">
              <a:solidFill>
                <a:srgbClr val="000000"/>
              </a:solidFill>
              <a:latin typeface="Times New Roman"/>
            </a:endParaRPr>
          </a:p>
        </p:txBody>
      </p:sp>
      <p:sp>
        <p:nvSpPr>
          <p:cNvPr id="9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imes New Roman"/>
              </a:rPr>
              <a:t>Pipeline Cases (by typ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Directors’ Loa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Inadequate Boo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Falsification of Docu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Disqualified Auditor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Undischarged Bankrup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Restricted Directo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Trading while Dissol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External Compani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Times New Roman"/>
              </a:rPr>
              <a:t>Quality of Financial Reporting (1)</a:t>
            </a:r>
            <a:endParaRPr b="0" lang="en-US" sz="4400" spc="-1" strike="noStrike">
              <a:solidFill>
                <a:srgbClr val="000000"/>
              </a:solidFill>
              <a:latin typeface="Times New Roman"/>
            </a:endParaRPr>
          </a:p>
        </p:txBody>
      </p:sp>
      <p:sp>
        <p:nvSpPr>
          <p:cNvPr id="97" name="PlaceHolder 2"/>
          <p:cNvSpPr>
            <a:spLocks noGrp="1"/>
          </p:cNvSpPr>
          <p:nvPr>
            <p:ph/>
          </p:nvPr>
        </p:nvSpPr>
        <p:spPr>
          <a:xfrm>
            <a:off x="456840" y="1981080"/>
            <a:ext cx="8381880" cy="3276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imes New Roman"/>
              </a:rPr>
              <a:t>ODCE Role </a:t>
            </a:r>
            <a:endParaRPr b="0" lang="en-US" sz="32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We enforce the obligations in company law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Overall legal standard is a ‘true and fair view’</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We depend on company auditors to identify breach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We rely on auditors to help prosecute those breach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We do not police compliance with accounting/auditing standards, but we have met occasional problem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560" y="609120"/>
            <a:ext cx="84582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Times New Roman"/>
              </a:rPr>
              <a:t>Quality of Financial Reporting (2)</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599840"/>
            <a:ext cx="7772400" cy="3809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imes New Roman"/>
              </a:rPr>
              <a:t>Accounts that should be qualified and aren’t</a:t>
            </a:r>
            <a:endParaRPr b="0" lang="en-US" sz="2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t>
            </a:r>
            <a:r>
              <a:rPr b="0" lang="en-IE" sz="2000" spc="-1" strike="noStrike">
                <a:solidFill>
                  <a:srgbClr val="000000"/>
                </a:solidFill>
                <a:latin typeface="Times New Roman"/>
              </a:rPr>
              <a:t>Basis of Opinion</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	</a:t>
            </a:r>
            <a:r>
              <a:rPr b="0" lang="en-IE" sz="2000" spc="-1" strike="noStrike">
                <a:solidFill>
                  <a:srgbClr val="000000"/>
                </a:solidFill>
                <a:latin typeface="Times New Roman"/>
              </a:rPr>
              <a:t>…</a:t>
            </a:r>
            <a:r>
              <a:rPr b="0" lang="en-IE" sz="2000" spc="-1" strike="noStrike">
                <a:solidFill>
                  <a:srgbClr val="000000"/>
                </a:solidFill>
                <a:latin typeface="Times New Roman"/>
              </a:rPr>
              <a:t>the evidence available to us was limited because the company’s turnover comprises cash sales over which there was no system of control on which we could rely for the purposes of our audit.  There were no other satisfactory audit procedures that we could adopt to confirm cash sales were properly recorded.</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Opinion</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	</a:t>
            </a:r>
            <a:r>
              <a:rPr b="0" lang="en-IE" sz="2000" spc="-1" strike="noStrike">
                <a:solidFill>
                  <a:srgbClr val="000000"/>
                </a:solidFill>
                <a:latin typeface="Times New Roman"/>
              </a:rPr>
              <a:t>…</a:t>
            </a:r>
            <a:r>
              <a:rPr b="0" lang="en-IE" sz="2000" spc="-1" strike="noStrike">
                <a:solidFill>
                  <a:srgbClr val="000000"/>
                </a:solidFill>
                <a:latin typeface="Times New Roman"/>
              </a:rPr>
              <a:t>In our opinion proper books of account have been kept by the company…”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Times New Roman"/>
              </a:rPr>
              <a:t>Outline of Presentation</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848720" cy="32767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Brief Introduction to the ODCE</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Reporting Obligations of Auditors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Public Complaints and Other Information Sourc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Reporting Obligations of Liquidator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Approaches Taken to Investigation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Quality of Financial Reporting</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Concluding Com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609120"/>
            <a:ext cx="83822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Times New Roman"/>
              </a:rPr>
              <a:t>Quality of Financial Reporting (3)</a:t>
            </a:r>
            <a:endParaRPr b="0" lang="en-US" sz="4400" spc="-1" strike="noStrike">
              <a:solidFill>
                <a:srgbClr val="000000"/>
              </a:solidFill>
              <a:latin typeface="Times New Roman"/>
            </a:endParaRPr>
          </a:p>
        </p:txBody>
      </p:sp>
      <p:sp>
        <p:nvSpPr>
          <p:cNvPr id="101" name="PlaceHolder 2"/>
          <p:cNvSpPr>
            <a:spLocks noGrp="1"/>
          </p:cNvSpPr>
          <p:nvPr>
            <p:ph/>
          </p:nvPr>
        </p:nvSpPr>
        <p:spPr>
          <a:xfrm>
            <a:off x="380880" y="1599840"/>
            <a:ext cx="8305920" cy="3809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imes New Roman"/>
              </a:rPr>
              <a:t>Non-Standard Opinion</a:t>
            </a:r>
            <a:endParaRPr b="0" lang="en-US" sz="2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   “</a:t>
            </a:r>
            <a:r>
              <a:rPr b="0" lang="en-IE" sz="2000" spc="-1" strike="noStrike">
                <a:solidFill>
                  <a:srgbClr val="000000"/>
                </a:solidFill>
                <a:latin typeface="Times New Roman"/>
              </a:rPr>
              <a:t>	</a:t>
            </a:r>
            <a:r>
              <a:rPr b="0" lang="en-IE" sz="2000" spc="-1" strike="noStrike">
                <a:solidFill>
                  <a:srgbClr val="000000"/>
                </a:solidFill>
                <a:latin typeface="Times New Roman"/>
              </a:rPr>
              <a:t>In our opinion the financial statements give as true and fair view of the state of the Company’s affairs as at 31</a:t>
            </a:r>
            <a:r>
              <a:rPr b="0" lang="en-IE" sz="2000" spc="-1" strike="noStrike" baseline="30000">
                <a:solidFill>
                  <a:srgbClr val="000000"/>
                </a:solidFill>
                <a:latin typeface="Times New Roman"/>
              </a:rPr>
              <a:t>st</a:t>
            </a:r>
            <a:r>
              <a:rPr b="0" lang="en-IE" sz="2000" spc="-1" strike="noStrike">
                <a:solidFill>
                  <a:srgbClr val="000000"/>
                </a:solidFill>
                <a:latin typeface="Times New Roman"/>
              </a:rPr>
              <a:t> March 2002 as was possible with the books that we received… (There followed a statement of the problem issues and the representations made by the directors.)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	</a:t>
            </a:r>
            <a:r>
              <a:rPr b="0" lang="en-IE" sz="2000" spc="-1" strike="noStrike">
                <a:solidFill>
                  <a:srgbClr val="000000"/>
                </a:solidFill>
                <a:latin typeface="Times New Roman"/>
              </a:rPr>
              <a:t>Subject to the above being accurate, we have obtained all the information and explanations that we consider necessary for the purposes of our audit.   In our opinion, there wasn’t proper books of account kept by the Company.  However, the financial statements are in agreement with the books of account at present within reason, there are items such as creditors and cash that cannot be pinpointed down, as well as stock…”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6091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Times New Roman"/>
              </a:rPr>
              <a:t>Quality of Financial Reporting (4)</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0720"/>
            <a:ext cx="7772400" cy="3505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imes New Roman"/>
              </a:rPr>
              <a:t>Inadequate Audit Repor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Cases where the failure to ascertain the company’s title to substantial investments attracted a qualified audit opinion  one year and no qualification the next</a:t>
            </a:r>
            <a:r>
              <a:rPr b="0" lang="en-IE"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Case of insolvent company with no opinion expressed on its “going concern” prospects, notwithstanding a substantial continuing defic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609120"/>
            <a:ext cx="83822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Times New Roman"/>
              </a:rPr>
              <a:t>Quality of Financial Reporting (5)</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676160"/>
            <a:ext cx="7772400" cy="3809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imes New Roman"/>
              </a:rPr>
              <a:t>Fundamental Uncertainty/Going Concern Issue</a:t>
            </a:r>
            <a:endParaRPr b="0" lang="en-US" sz="2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Case where a company made a trading loss in 1999 and 2000, had cumulative losses and where its current liabilities exceeded its current assets in each year by over £800K and £1 million.  Two months before the company went into liquidation, the auditor reported as follow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t>
            </a:r>
            <a:r>
              <a:rPr b="0" lang="en-IE" sz="2000" spc="-1" strike="noStrike">
                <a:solidFill>
                  <a:srgbClr val="000000"/>
                </a:solidFill>
                <a:latin typeface="Times New Roman"/>
              </a:rPr>
              <a:t>The financial statements have been prepared on a going concern basis, the validity of which depends upon future funding being available.  The financial statements do not include any adjustments that would result from a failure to obtain funding.  Our opinion is not qualified in this respec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4568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Times New Roman"/>
              </a:rPr>
              <a:t>Quality of Financial Reporting (6)</a:t>
            </a:r>
            <a:endParaRPr b="0" lang="en-US" sz="4400" spc="-1" strike="noStrike">
              <a:solidFill>
                <a:srgbClr val="000000"/>
              </a:solidFill>
              <a:latin typeface="Times New Roman"/>
            </a:endParaRPr>
          </a:p>
        </p:txBody>
      </p:sp>
      <p:sp>
        <p:nvSpPr>
          <p:cNvPr id="107" name="PlaceHolder 2"/>
          <p:cNvSpPr>
            <a:spLocks noGrp="1"/>
          </p:cNvSpPr>
          <p:nvPr>
            <p:ph/>
          </p:nvPr>
        </p:nvSpPr>
        <p:spPr>
          <a:xfrm>
            <a:off x="457200" y="1142640"/>
            <a:ext cx="815328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imes New Roman"/>
              </a:rPr>
              <a:t>Overall View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Audit is a valuable discipline and assuran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Satisfied as to the integrity of most accounts/audi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Our work has identified some lap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Many examples given now subject to investig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Have/Will relay issues to accountancy bod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Any audit exemption change should be measur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ODCE/IAASA co-operation desirable in the fut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Times New Roman"/>
              </a:rPr>
              <a:t>Concluding Comment (1)</a:t>
            </a:r>
            <a:endParaRPr b="0" lang="en-US" sz="4400" spc="-1" strike="noStrike">
              <a:solidFill>
                <a:srgbClr val="000000"/>
              </a:solidFill>
              <a:latin typeface="Times New Roman"/>
            </a:endParaRPr>
          </a:p>
        </p:txBody>
      </p:sp>
      <p:sp>
        <p:nvSpPr>
          <p:cNvPr id="109" name="PlaceHolder 2"/>
          <p:cNvSpPr>
            <a:spLocks noGrp="1"/>
          </p:cNvSpPr>
          <p:nvPr>
            <p:ph/>
          </p:nvPr>
        </p:nvSpPr>
        <p:spPr>
          <a:xfrm>
            <a:off x="457200" y="1980720"/>
            <a:ext cx="8229600" cy="3124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Active Compliance Agenda/Enhanced Profi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Concluded about 75% of Reports/Complai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About 100 ODCE Cases heading for Cour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New Insolvency Regime successfully launch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Positive Feedback on Customer Serv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Times New Roman"/>
              </a:rPr>
              <a:t>Concluding Comment (2)</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3200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Further information on the ODCE and its work is available from </a:t>
            </a:r>
            <a:r>
              <a:rPr b="0" lang="en-IE" sz="3200" spc="-1" strike="noStrike" u="sng">
                <a:solidFill>
                  <a:srgbClr val="000000"/>
                </a:solidFill>
                <a:uFillTx/>
                <a:latin typeface="Times New Roman"/>
              </a:rPr>
              <a:t>www.odce.i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Thank Yo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Times New Roman"/>
              </a:rPr>
              <a:t>Introduction (1)</a:t>
            </a:r>
            <a:endParaRPr b="0" lang="en-US" sz="4400" spc="-1" strike="noStrike">
              <a:solidFill>
                <a:srgbClr val="000000"/>
              </a:solidFill>
              <a:latin typeface="Times New Roman"/>
            </a:endParaRPr>
          </a:p>
        </p:txBody>
      </p:sp>
      <p:sp>
        <p:nvSpPr>
          <p:cNvPr id="48" name="PlaceHolder 2"/>
          <p:cNvSpPr>
            <a:spLocks noGrp="1"/>
          </p:cNvSpPr>
          <p:nvPr>
            <p:ph/>
          </p:nvPr>
        </p:nvSpPr>
        <p:spPr>
          <a:xfrm>
            <a:off x="685440" y="1981080"/>
            <a:ext cx="8077320" cy="2743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imes New Roman"/>
              </a:rPr>
              <a:t>What is the Office of the Director of Corporate Enforcem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Remit is focused on the Companies Acts 1963-2001</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Multi-disciplinary agency comprising 35-40 administrative, legal, accounting and Garda staff</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Budget of €3.8 million in 200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Times New Roman"/>
              </a:rPr>
              <a:t>Introduction (2)</a:t>
            </a:r>
            <a:endParaRPr b="0" lang="en-US" sz="4400" spc="-1" strike="noStrike">
              <a:solidFill>
                <a:srgbClr val="000000"/>
              </a:solidFill>
              <a:latin typeface="Times New Roman"/>
            </a:endParaRPr>
          </a:p>
        </p:txBody>
      </p:sp>
      <p:sp>
        <p:nvSpPr>
          <p:cNvPr id="50" name="PlaceHolder 2"/>
          <p:cNvSpPr>
            <a:spLocks noGrp="1"/>
          </p:cNvSpPr>
          <p:nvPr>
            <p:ph/>
          </p:nvPr>
        </p:nvSpPr>
        <p:spPr>
          <a:xfrm>
            <a:off x="685440" y="1980720"/>
            <a:ext cx="8077320" cy="2971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imes New Roman"/>
              </a:rPr>
              <a:t>The ODCE’s Goals</a:t>
            </a:r>
            <a:endParaRPr b="0" lang="en-US" sz="32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Encourage Compliance with Company Law</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Uncover Suspected Breach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Prosecute Detected Breach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Sanction Improper Conduct in Insolvent Compani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Deliver Quality Customer Servi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456840"/>
            <a:ext cx="83059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Times New Roman"/>
              </a:rPr>
              <a:t>Auditors’ Reporting Obligations (1)</a:t>
            </a:r>
            <a:endParaRPr b="0" lang="en-US" sz="4000" spc="-1" strike="noStrike">
              <a:solidFill>
                <a:srgbClr val="000000"/>
              </a:solidFill>
              <a:latin typeface="Times New Roman"/>
            </a:endParaRPr>
          </a:p>
        </p:txBody>
      </p:sp>
      <p:sp>
        <p:nvSpPr>
          <p:cNvPr id="52" name="PlaceHolder 2"/>
          <p:cNvSpPr>
            <a:spLocks noGrp="1"/>
          </p:cNvSpPr>
          <p:nvPr>
            <p:ph/>
          </p:nvPr>
        </p:nvSpPr>
        <p:spPr>
          <a:xfrm>
            <a:off x="380520" y="1752480"/>
            <a:ext cx="815364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  </a:t>
            </a:r>
            <a:r>
              <a:rPr b="0" lang="en-IE" sz="2400" spc="-1" strike="noStrike">
                <a:solidFill>
                  <a:srgbClr val="000000"/>
                </a:solidFill>
                <a:latin typeface="Times New Roman"/>
              </a:rPr>
              <a:t>Where, in the course of, and by virtue of, their carrying out an audit of the accounts of the company, information comes into the possession of the auditors of a company that leads them to form the opinion that there are reasonable grounds for believing that the company or an officer or agent of it has committed an indictable offence under the Companies Acts, the auditors shall, forthwith after having formed it, notify that opinion to the Director and provide the Director with details of the grounds on which they have formed that opinion. ” </a:t>
            </a:r>
            <a:endParaRPr b="0" lang="en-US" sz="2400" spc="-1" strike="noStrike">
              <a:solidFill>
                <a:srgbClr val="000000"/>
              </a:solidFill>
              <a:latin typeface="Times New Roman"/>
            </a:endParaRPr>
          </a:p>
          <a:p>
            <a:pPr marL="343080" indent="-343080" algn="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Times New Roman"/>
              </a:rPr>
              <a:t>S.74(e), Company Law Enforcement Act 20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Times New Roman"/>
              </a:rPr>
              <a:t>Auditors’ Reporting Obligations (2)</a:t>
            </a:r>
            <a:endParaRPr b="0" lang="en-US" sz="4000" spc="-1" strike="noStrike">
              <a:solidFill>
                <a:srgbClr val="000000"/>
              </a:solidFill>
              <a:latin typeface="Times New Roman"/>
            </a:endParaRPr>
          </a:p>
        </p:txBody>
      </p:sp>
      <p:sp>
        <p:nvSpPr>
          <p:cNvPr id="54" name="PlaceHolder 2"/>
          <p:cNvSpPr>
            <a:spLocks noGrp="1"/>
          </p:cNvSpPr>
          <p:nvPr>
            <p:ph/>
          </p:nvPr>
        </p:nvSpPr>
        <p:spPr>
          <a:xfrm>
            <a:off x="685440" y="1981080"/>
            <a:ext cx="8001000" cy="3276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Start Date of Obligation was 28 November 2001</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Scope covers about 128 indictable offenc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ODCE Consultation Paper issued in February 2002</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First Auditor Reports received in March 2002</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Joint Guidance published in July 2002 by ODCE, CCAB-I and APB</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Copy available at </a:t>
            </a:r>
            <a:r>
              <a:rPr b="0" lang="en-IE" sz="2800" spc="-1" strike="noStrike" u="sng">
                <a:solidFill>
                  <a:srgbClr val="000000"/>
                </a:solidFill>
                <a:uFillTx/>
                <a:latin typeface="Times New Roman"/>
              </a:rPr>
              <a:t>www.odce.ie/pub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57200"/>
            <a:ext cx="83059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Times New Roman"/>
              </a:rPr>
              <a:t>Auditors’ Reporting Obligations (3)</a:t>
            </a:r>
            <a:endParaRPr b="0" lang="en-US" sz="4000" spc="-1" strike="noStrike">
              <a:solidFill>
                <a:srgbClr val="000000"/>
              </a:solidFill>
              <a:latin typeface="Times New Roman"/>
            </a:endParaRPr>
          </a:p>
        </p:txBody>
      </p:sp>
      <p:sp>
        <p:nvSpPr>
          <p:cNvPr id="56" name="PlaceHolder 2"/>
          <p:cNvSpPr>
            <a:spLocks noGrp="1"/>
          </p:cNvSpPr>
          <p:nvPr>
            <p:ph/>
          </p:nvPr>
        </p:nvSpPr>
        <p:spPr>
          <a:xfrm>
            <a:off x="457200" y="1447560"/>
            <a:ext cx="8229600" cy="42670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eports:</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400 in 2002; 1,357 in 2003 so far</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ssues:</a:t>
            </a:r>
            <a:r>
              <a:rPr b="0" lang="en-GB" sz="2800" spc="-1" strike="noStrike">
                <a:solidFill>
                  <a:srgbClr val="000000"/>
                </a:solidFill>
                <a:latin typeface="Times New Roman"/>
              </a:rPr>
              <a:t>	</a:t>
            </a:r>
            <a:r>
              <a:rPr b="0" lang="en-GB" sz="2800" spc="-1" strike="noStrike">
                <a:solidFill>
                  <a:srgbClr val="000000"/>
                </a:solidFill>
                <a:latin typeface="Times New Roman"/>
              </a:rPr>
              <a:t>79% relate to Filing/Directors’ Residence</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14% are about Directors’ Loans</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5% deal with Failing to hold EGMs</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2% relate to Inadequate Books</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lt;0.01% concern Unqualified Auditors/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AGM Problems/Disclosure Defaults/Fraud</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ctions:</a:t>
            </a:r>
            <a:r>
              <a:rPr b="0" lang="en-GB" sz="2800" spc="-1" strike="noStrike">
                <a:solidFill>
                  <a:srgbClr val="000000"/>
                </a:solidFill>
                <a:latin typeface="Times New Roman"/>
              </a:rPr>
              <a:t>	</a:t>
            </a:r>
            <a:r>
              <a:rPr b="0" lang="en-GB" sz="2800" spc="-1" strike="noStrike">
                <a:solidFill>
                  <a:srgbClr val="000000"/>
                </a:solidFill>
                <a:latin typeface="Times New Roman"/>
              </a:rPr>
              <a:t>Filing Offences referred to the CRO</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Most of the rest are under investig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57200"/>
            <a:ext cx="81532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Times New Roman"/>
              </a:rPr>
              <a:t>Auditors’ Reporting Obligations (4)</a:t>
            </a:r>
            <a:endParaRPr b="0" lang="en-US" sz="4000" spc="-1" strike="noStrike">
              <a:solidFill>
                <a:srgbClr val="000000"/>
              </a:solidFill>
              <a:latin typeface="Times New Roman"/>
            </a:endParaRPr>
          </a:p>
        </p:txBody>
      </p:sp>
      <p:sp>
        <p:nvSpPr>
          <p:cNvPr id="58" name="PlaceHolder 2"/>
          <p:cNvSpPr>
            <a:spLocks noGrp="1"/>
          </p:cNvSpPr>
          <p:nvPr>
            <p:ph/>
          </p:nvPr>
        </p:nvSpPr>
        <p:spPr>
          <a:xfrm>
            <a:off x="457200" y="1447560"/>
            <a:ext cx="830592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imes New Roman"/>
              </a:rPr>
              <a:t>Features of Reporting to d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Only 9 of 128 possible offences reported to d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Most reports relate to matters disclosable elsewhe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iling Defaults/Directors’ Residence (on the CRO’s record)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Directors’ Loans (in Notes to Financial Statemen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ailure to hold EGM (Obligation to do so stated in Auditor’s Repor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ailure to keep proper books (in Auditor’s Repo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31T15:46:26Z</dcterms:created>
  <dc:creator>Denis Hosford</dc:creator>
  <dc:description/>
  <dc:language>en-US</dc:language>
  <cp:lastModifiedBy> </cp:lastModifiedBy>
  <dcterms:modified xsi:type="dcterms:W3CDTF">2003-11-20T13:11:47Z</dcterms:modified>
  <cp:revision>43</cp:revision>
  <dc:subject/>
  <dc:title>PowerPoint Presentation</dc:title>
</cp:coreProperties>
</file>