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7C04-52DE-4AA0-9C9D-BAE0141C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F6F-906D-43F8-BF1B-21F369D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BAD5-1570-4345-A5F2-E6BDEBE88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3AC-70A2-4875-92C6-506FE19E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C49-9EE0-4509-A4ED-E35D910D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13E2-36E6-4464-8CD2-4AD81BEE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1E57-8073-4D6F-B917-CC507F4B3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60B-486F-4A8F-BDA8-CD205740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EBCC-0BDA-42A4-A8C9-8CE30F6F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F5A-BCA9-421D-8992-17032732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42A-6278-48E9-BA7A-7B231A9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6706-B97F-4626-9ACE-C6ABE6B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D46D-1CEF-4C39-88AB-8B41D708A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nd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40% of approved expenditure programme of the Authority will by provided by the excheq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thority may impose levies on the recognised bodies, subject to the Minister’s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ximum amount levied on the bodies may not exceed 60% of the approved expenditure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Review of certain companies’ accounts for compliance with the Companies A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Provisions apply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lcs (whether listed or not) and their subsidi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vate cls with BST &gt; €25,000,000 and T/O &gt; €50,00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private cls that is a parent undertaking if the parent and all of the subsidiary undertakings meet the aforementioned crite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subsidiary undertaking of the aforementioned private cl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ertain other undertakings that satisfy the aforementioned criteria (e.g. unlimited companies and certain partnership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uthority may give notice to the directors of a relevant undertaking concerning its annual accounts whe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 copy of the accounts has been laid before an AGM or filed with the Registra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re is, or may be, a question as to whether those accounts comply with the Ac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notice to the directors must specify the matters in respect of which compliance is questio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directors are required to give an explanation of the accounts or to prepare revised accounts within 30 day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f the Authority is not satisfied with the response received, it may apply to the High Court for a declaration of non-comp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f satisified that there is non-compliance, the Court may make a declaration requiring the restatement of the accounts and may make an order awarding the Authority’s cos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For the purposes of this section, every director who was a director at the time the accounts were approved is considered to be party to that approval unless they can show that they took all reasonable steps to prevent approv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tatutory backing for accounting stand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ach company will be required to ensure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ts annual accounts include a statement as to whether they have been prepared in accordance with applicable accounting standard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ny material departure therefrom and reasons therefore are noted in the accou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Failure to comply with this section will constitute an offe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dit Commit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board of a plc, whether listed or not, shall establish and adequately resource an audit committ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committee’s responsibilities 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review the accounts before they are presented to the board for appro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determine whether the annual accounts give a true and fair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recommend to the board whether or not to approve the 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determine, at least annually, whether the company has kept proper books of ac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review the compliance statements prior to approval and to determine whether the statements are fair and reason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o advise the board as to the recommendations to be made to shareholders concerning the appointment of the company’s au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monitoring the performance and quality of the auditor’s work and the auditor’s independ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obtaining from the auditor up to date information to enable the committee to monitor the company’s relationship with the au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commending whether or not to award non-audit contracts to the auditor or its affilitate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satifsying itself that the arrangments made and the resources available for internal audit are sui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dit Committ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board of directors of a large private cls and each relevant undertaking shall ei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establish an audit committee that meets the foregoing requirements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tate in their report that they have decided not to establish an audit committee and specify the reasons for that deci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dit committees will be required to consist of directors as the board sees fit, provided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committee has a minimum of two members,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members have not been employees within the last 5 years and are not the chairman of the bo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establish a committee, or the establishment of a committee that is not in accordance with the section, is an offence on the part of the comp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closure of accounting polic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ompanies will be required by statute to disclose their accounting policies in determ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items and amounts to be included in the balance sheet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amounts in the profit and loss accou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comply with these requirements will constitute an offence on the part of the compan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68580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The Compan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(Auditing &amp; Accounting) Bill,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resentation to Clients of Capita Corporate Registr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estbury Hotel, Dub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18 November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an Drennan, Corporate Compliance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sclosure of remuneration for audit, audit related and non-audit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following must be disclosed in companies’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muneration for all audit work, audit related work and non-audit work that was carried out in the year in question by the auditor and by any of the auditor’s affil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muneration for all audit work, audit related work and non-audit work that was carried out in the the preceding year by the auditor and by any of the auditor’s affiliate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the remuneration is for non-audit work, the nature of that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Where the remuneration in respect of a year for non-audit work exceeds the aggregate in respect of audit work and audit related work, the audit committee shall state in its re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ther it is satisfied that the carrying out of non-audit work has not affected the auditor’s independence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f it has satisfied itself to that effect, the reasons for the decision to have non-audit work carried out by the auditor or affilili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the company does not have an audit committee, the directors must make the foregoing statement in their directors’ re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comply will constitute an offence on the part of the company (in respect of disclosure of remuneration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on the part of the audit committee or directors to to make the required statements will constitute an offence on the part of the committee memebers/dir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irectors’ complianc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directors of a company are required to prepare a compliance statement containing the follow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the company’s policies respecting compliance with its relevant oblig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ts internal financial and other procedures for securing complia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ts arrangements for implementing and reviewing the effectiveness of the policies and procedures referred to abo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compliance statement must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 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roved by the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viewed at least every three year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ncluded in the directors’ report (or in the notes where the company is not required to file a directors’ report with the Registr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directors will also be required to include in the directors’ report (or in the notes) a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acknowledging that the directors are responsible for securing compliance with relevant oblig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firming that the company has internal financial and other procedures in place designed to secure compliance and, if this is not the case, specifying the reason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confirming that the directors have reviewed the effectiveness of the procedures during the financial year and, if this is not the case, specifying the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statement must also specify whether the directors, based on the procedures referred to above and their review of those procedures, are of the opi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at they have used all reasonable endeavours to secure the company’s compliance with its relevant oblig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at except for instances of immaterial non-compliance, the company has complied with its relevant obligations in that financial year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f they are not of that opinion, specify the reas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requirement to prepare a compliance statement will not apply to audit exempt compan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ailure to prepare the foregoing compliance statements will constitute an offence on the part of the directo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company’s auditor shall undertake a review of the directors’ compliance statements to determine whether, in the auditor’s opinion each statement is fair and reason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The auditor shall include in the audit report a report on, and the conclusions of, the review undertaken and, where the statement is not, in the auditor’s opinion, fair and reasonable, the auditor sh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make a report to that effect to the directors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nclude that report in the auditor’s report to the memb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Where, in the auditor’s opinion, the directors have failed to prepare a statement, the auditor shall report that opinion to the D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End of 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resentatio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imeframe to Enac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Other Measures to Strenghen the Regulation of Au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imeframe to Enac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ill a result of the RGA’s recommend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ill has passed all stages in the Sean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Number of amendments taken in the Sean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Currently at second stage in the Dá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Due to go to Committee Stage on 27 Nov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Significant amendments expected at Committee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Likely to have passed fourth and fifth Stages and to have been enacted by year 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ill proposes to create an Oversight Body (IA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uthority to be a public company limited by guaran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em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Each of the recognised accountancy bod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B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CT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A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Pensions 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IFS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DCE,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company’s objects will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supervise how the prescribed accountancy bodies regulate and monitor their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promote adherence to high professional standards in the auditing and accountancy prof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monitor whether the financial statements of certain companies comply with the Companies Act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o act as a specialist source of advice to the Minister on auditing and accounting mat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The Authority’s functions will include, </a:t>
            </a:r>
            <a:r>
              <a:rPr b="0" i="1" lang="en-IE" sz="2000" spc="-1" strike="noStrike">
                <a:solidFill>
                  <a:srgbClr val="000000"/>
                </a:solidFill>
                <a:latin typeface="Times New Roman"/>
              </a:rPr>
              <a:t>inter alia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granting audit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where deemed appropriate, attaching terms and conditions to recog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approval of recognised bodies’ constitutions and bye laws, including their investigation and disciplinary proced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conducting enquiries as to whether a prescribed body has complied with its approved investigation and disciplinary proced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imposing sanctions on a body that fails to comply with its approved procedur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Functions (continu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undertaking investigations into possible breaches of bodies’ standards by their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supervising how each body monitors its memb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eveloping standards relating to the independence of auditors in co-operation with the bodies and other interested par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developing auditing and accounting standards and practice notes in co-operation with the recognised bodies and others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</a:rPr>
              <a:t>reviewing whether the financial statements of certain companies comply with the Companies Ac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Supervisory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Board of Direct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Max 14 members + C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3 persons nominated jointly by the recognised bod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2 nominated by the Min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1 nominee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BEC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C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AIM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Pensions Board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IFS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Revenue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D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Times New Roman"/>
              </a:rPr>
              <a:t>Law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5:46:26Z</dcterms:created>
  <dc:creator>Denis Hosford</dc:creator>
  <dc:description/>
  <dc:language>en-US</dc:language>
  <cp:lastModifiedBy>administrator</cp:lastModifiedBy>
  <dcterms:modified xsi:type="dcterms:W3CDTF">2003-11-17T08:16:53Z</dcterms:modified>
  <cp:revision>1210</cp:revision>
  <dc:subject/>
  <dc:title>PowerPoint Presentation</dc:title>
</cp:coreProperties>
</file>