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05E4-A828-4CAB-B6E9-9A3BFF63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67E-E5BC-492B-914F-DF0B9937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6D0-9336-445F-9298-9C8947A3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2A13-7EB8-4CC3-B4CC-396B83DA7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8EAC-C2B9-4C04-93DB-86F0B45B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42D-DB8E-46D1-A4DF-05235DCE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EAFD-2CB5-4BB3-A4ED-9072EB85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EFA-ECB1-49FC-867E-D205A389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28B-3A13-4B8A-8826-E659D40B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0D8-9B0A-4E4A-AAA0-F1FFA197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8FF-4C83-4DB0-8DBB-43B5EE7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3EF-CAC2-45A2-A616-0DBB78E7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DD16-C559-4618-9172-B14271BAC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un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40% of approved expenditure programme of the Authority will by provided by the excheq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thority may impose levies on the recognised bodies, subject to the Minister’s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aximum amount levied on the bodies may not exceed 60% of the approved expenditure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view of certain companies’ accounts for compliance with the Companies A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ovisions apply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lcs (whether listed or not) and their subsidi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vate cls with BST &gt; €25,000,000 and T/O &gt; €50,0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vate cls that is a parent undertaking if the parent and all of the subsidiary undertakings meet the aforementioned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ach subsidiary undertaking of the aforementioned private cl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ertain other undertakings that satisfy the aforementioned criteria (e.g. unlimited companies and certain partnership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uthority may give notice to the directors of a relevant undertaking concerning its annual accounts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 copy of the accounts has been laid before an AGM or filed with the Registrar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re is, or may be, a question as to whether those accounts comply with the Ac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notice to the directors must specify the matters in respect of which compliance is questio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directors are required to give an explanation of the accounts or to prepare revised accounts within 30 d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f the Authority is not satisfied with the response received, it may apply to the High Court for a declaration of non-compli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f satisified that there is non-compliance, the Court may make a declaration requiring the restatement of the accounts and may make an order awarding the Authority’s cos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For the purposes of this section, every director who was a director at the time the accounts were approved is considered to be party to that approval unless they can show that they took all reasonable steps to prevent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tutory backing for accounting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ach company will be required to ensure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ts annual accounts include a statement as to whether they have been prepared in accordance with applicable accounting standard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ny material departure therefrom and reasons therefore are noted in the accou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Failure to comply with this section will constitute an off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dit Commit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board of a plc, whether listed or not, shall establish and adequately resource an audit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committee’s responsibilities 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review the accounts before they are presented to the board for app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determine whether the annual accounts give a true and fair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recommend to the board whether or not to approve the ac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determine, at least annually, whether the company has kept proper books of 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review the compliance statements prior to approval and to determine whether the statements are fair and reas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advise the board as to the recommendations to be made to shareholders concerning the appointment of the company’s au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monitoring the performance and quality of the auditor’s work and the auditor’s indepen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obtaining from the auditor up to date information to enable the committee to monitor the company’s relationship with the au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ecommending whether or not to award non-audit contracts to the auditor or its affilitat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atifsying itself that the arrangments made and the resources available for internal audit are sui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dit Commit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board of directors of a large private cls and each relevant undertaking shall 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stablish an audit committee that meets the foregoing requirements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tate in their report that they have decided not to establish an audit committee and specify the reasons for that deci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dit committees will be required to consist of directors as the board sees fit, provided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committee has a minimum of two members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members have not been employees within the last 5 years and are not the chairman of the 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to establish a committee, or the establishment of a committee that is not in accordance with the section, is an offence on the part of the compa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sclosure of accounting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panies will be required by statute to disclose their accounting policies in determ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items and amounts to be included in the balance sheet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mounts in the profit and loss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to comply with these requirements will constitute an offence on the part of the compa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The Compa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(Auditing &amp; Accounting) Bill,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resentation to Clients of Capita Corporate Registr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estbury Hotel, Dub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18 November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an Drennan, Corporate Complianc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sclosure of remuneration for audit, audit related and non-audi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following must be disclosed in companies’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muneration for all audit work, audit related work and non-audit work that was carried out in the year in question by the auditor and by any of the auditor’s affil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muneration for all audit work, audit related work and non-audit work that was carried out in the the preceding year by the auditor and by any of the auditor’s affiliate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the remuneration is for non-audit work, the nature of that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here the remuneration in respect of a year for non-audit work exceeds the aggregate in respect of audit work and audit related work, the audit committee shall state in it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ether it is satisfied that the carrying out of non-audit work has not affected the auditor’s independence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f it has satisfied itself to that effect, the reasons for the decision to have non-audit work carried out by the auditor or affilili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the company does not have an audit committee, the directors must make the foregoing statement in their directors’ re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to comply will constitute an offence on the part of the company (in respect of disclosure of remuneratio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on the part of the audit committee or directors to to make the required statements will constitute an offence on the part of the committee memebers/dir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rectors’ complianc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directors of a company are required to prepare a compliance statement containing the follow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company’s policies respecting compliance with its relevant oblig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ts internal financial and other procedures for securing complia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ts arrangements for implementing and reviewing the effectiveness of the policies and procedures referred to abo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compliance statement mus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 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pproved by th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viewed at least every three year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cluded in the directors’ report (or in the notes where the company is not required to file a directors’ report with the Registra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directors will also be required to include in the directors’ report (or in the notes) a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cknowledging that the directors are responsible for securing compliance with relevant oblig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nfirming that the company has internal financial and other procedures in place designed to secure compliance and, if this is not the case, specifying the reason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nfirming that the directors have reviewed the effectiveness of the procedures during the financial year and, if this is not the case, specifying the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statement must also specify whether the directors, based on the procedures referred to above and their review of those procedures, are of the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at they have used all reasonable endeavours to secure the company’s compliance with its relevant oblig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at except for instances of immaterial non-compliance, the company has complied with its relevant obligations in that financial year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f they are not of that opinion, specify the reas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requirement to prepare a compliance statement will not apply to audit exempt compan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to prepare the foregoing compliance statements will constitute an offence on the part of the dir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company’s auditor shall undertake a review of the directors’ compliance statements to determine whether, in the auditor’s opinion each statement is fair and reason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auditor shall include in the audit report a report on, and the conclusions of, the review undertaken and, where the statement is not, in the auditor’s opinion, fair and reasonable, the auditor sh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ake a report to that effect to the directors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nclude that report in the auditor’s report to the memb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ere, in the auditor’s opinion, the directors have failed to prepare a statement, the auditor shall report that opinion to the D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imeframe to Enac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imeframe to Enac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ill a result of the RGA’s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ill has passed all stages in the Sean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Number of amendments taken in the Sean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urrently at second stage in the Dá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ue to go to Committee Stage on 27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ignificant amendments expected at Committee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kely to have passed fourth and fifth Stages and to have been enacted by year 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ill proposes to create an Oversight Body (IA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thority to be a public company limited by guaran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em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Each of the recognised accountancy bod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B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C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A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Pensions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FS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CE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Law Soci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company’s objects 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supervise how the prescribed accountancy bodies regulate and monitor their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promote adherence to high professional standards in the auditing and accountancy prof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monitor whether the financial statements of certain companies comply with the Companies Act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act as a specialist source of advice to the Minister on auditing and accounting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functions will include, 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granting audit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deemed appropriate, attaching terms and conditions to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pproval of recognised bodies’ constitutions and bye laws, including their investigation and disciplinary proced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nducting enquiries as to whether a prescribed body has complied with its approved investigation and disciplinary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mposing sanctions on a body that fails to comply with its approved proced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unctions (continu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undertaking investigations into possible breaches of bodies’ standards by their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upervising how each body monitors its memb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developing standards relating to the independence of auditors in co-operation with the bodies and other interested par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developing auditing and accounting standards and practice notes in co-operation with the recognised bodies and other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viewing whether the financial statements of certain companies comply with the Companies Ac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oard of Dire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ax 14 members + C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3 persons nominated jointly by the recognised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2 nominated by the Mi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1 nominee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BEC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C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AIM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Pensions Board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FS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Law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5:46:26Z</dcterms:created>
  <dc:creator>Denis Hosford</dc:creator>
  <dc:description/>
  <dc:language>en-US</dc:language>
  <cp:lastModifiedBy>administrator</cp:lastModifiedBy>
  <dcterms:modified xsi:type="dcterms:W3CDTF">2003-11-17T08:16:53Z</dcterms:modified>
  <cp:revision>1210</cp:revision>
  <dc:subject/>
  <dc:title>PowerPoint Presentation</dc:title>
</cp:coreProperties>
</file>