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95E-CBAD-4B74-ABB1-B7BCD3A5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8B4-16E8-4517-98AD-0940699E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19A-EE53-4B7D-B9C5-D76A6448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2CA-CE77-44B4-9E37-FFC2C1F8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878-787E-4566-9ED8-66CA5DBB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20D-8574-4F67-A2A2-265C4148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1DA-E07A-49F0-8693-C1111FA6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B1E-BE84-45D3-A2F5-FA2B2A9A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BF9-36A1-4DAC-875D-33DC4CEA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77B-5DE6-4567-A26A-F6F3866B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3F5-8F5D-4A58-974B-77E7D73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E3D-B150-488B-9935-17C5507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A8DD-5D25-4CB8-A245-87D14FED63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Institute of Chartered Secretaries and Administ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Annual Conference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15 Octo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CE Investiga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tters of Public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ibunal of Inquiry/Inspector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a Discl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O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-Agency Co-ope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rda Sioch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Us planned with Revenue, IFSR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DCE Investigation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Approaches to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rrespondence/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eeking Original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aking of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Non-Legal Outcomes to Invest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ile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ferral to Other Auth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arning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DCE Investigation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Legal Powers Used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003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earch Warrants 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5 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Bankers’ Books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7 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1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Arrests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Detentions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solvent Compani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hased Comme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1 June 2002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: insolvent companies to which a liquidator was newly appointed or was appointed on or after 1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1 June 2003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: insolvent companies to which a liquidator was appointed on or after 1 Januar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olvent Compan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s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3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quidator Repor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7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7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s Determin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ll Relie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62 (5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Relief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22 (4.4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ief at this tim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31 (6.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Relie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182 (36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solvent Compani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ome Section 56 Reports under criminal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Notable Absence of Section 299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liquidated Insolvent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stricted/Disqualified Dir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upervision of Liquidators (Demands for 20+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mpanies in Liquid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ivil Proceeding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ivil Enforcement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003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pliance Order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Disqualifications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operty Seizure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eeking Information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2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Judicial Review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ivil Proceeding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Restriction Applications by Liqui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ome 400 directors before the High Court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lanned ODCE Restriction Applic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irectors of Unliquidated Insolvent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lanned ODCE Disqualification Applic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irectors of Struck-Off Companies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iminal Proceeding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riminal Enforcement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003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viction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20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0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fence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iling to Keep Proper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lsification of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ischarged Bank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rectors’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qualified Au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riminal Proceeding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Pipeline Cases (by ty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irectors’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adequate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alsification of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isqualified Aud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discharged Bank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stricted Dir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rading while Dis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xternal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Over-Regulation – </a:t>
            </a:r>
            <a:br>
              <a:rPr sz="4400"/>
            </a:b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Fact or Fiction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The ODCE’s Developing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Paul Appleby, 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Concluding Com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urrent Areas for ODCE Attentio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mpliance Work is in continuing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More Information on Misconduct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mpletion of Investigations a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Liquidated/Dissolved/Abandoned Compan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itiating and Completing Court Proceeding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Concluding Com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Over-Regulation – Fact or Fi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rguable Case that Companies Acts and other laws need to be streamlined and modern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 Lax Enforcement Environment up to rec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gulators, etc. are having to change the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DCE adopting a reasonable approach to its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o not believe that Over-Regulation applies in the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manner in which we discharge our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Concluding Comment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ompanies Acts Compliance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nhancing Consumer Information/Welf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Improving Integrity of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Reducing Tax Eva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Lowering Risks for Cre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Improving Business Reputation and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he ODCE’s Principal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DCE Complianc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DCE Investig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solvent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ivil Proceedings by the OD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riminal Proceedings by the OD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ncluding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100" spc="-1" strike="noStrike">
                <a:solidFill>
                  <a:srgbClr val="000000"/>
                </a:solidFill>
                <a:latin typeface="Times New Roman"/>
              </a:rPr>
              <a:t>The ODCE’s Principal Goal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Improving Company Law Compli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covering Suspected Brea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rsuing Detected Br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ctioning Improper Conduct in Insolvent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ing Qualit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ODCE Compliance Work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shing Accessibl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 Information Books on Obligations/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of Auditor Mandatory Reporting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ation-Related Functions of the OD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CE Strategy Statement and Annual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ODCE Compliance Work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moting 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 of Presentations, Artic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aging with Business via Consultation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it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Times New Roman"/>
              </a:rPr>
              <a:t>ODCE Compliance Work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ing Company Related Pro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the Company Law Review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ing the planned Irish Auditing and Accounting Supervisory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ing the Department of Enterprise Trade and Employment on Compliance/Enforcemen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ening Professional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CE Investigation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uditor Reports of Suspected Indictable Off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ume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00 in 2002; 1,100 so far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eache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5% relate to Filing/Similar Off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5% are about Directors’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% deal with Failing to hold EG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% relate to Inadequate Book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tion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ling Offences referred to the 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rest are under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CE Investigation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ublic Compl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ume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00 in 2002; 250 so far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fences: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5% disclose no Company Law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1% relate to Civil Matters/Deb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5% are filing defa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9% cover a range of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tion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closed, others being ass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5:46:26Z</dcterms:created>
  <dc:creator>Denis Hosford</dc:creator>
  <dc:description/>
  <dc:language>en-US</dc:language>
  <cp:lastModifiedBy> </cp:lastModifiedBy>
  <dcterms:modified xsi:type="dcterms:W3CDTF">2003-10-08T08:23:34Z</dcterms:modified>
  <cp:revision>33</cp:revision>
  <dc:subject/>
  <dc:title>PowerPoint Presentation</dc:title>
</cp:coreProperties>
</file>