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E726-BD43-415C-8AAE-E22866C9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2FD0-F13D-487E-818A-2147AF88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1F27-8F58-4E79-9E51-B33A0D5E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9B66-3A55-4CAD-9559-921631BE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8196-9B64-4BC7-A460-23AD9EFC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BDA8-00A0-47A8-AAE6-B4054B6A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CDDE-6662-413B-AAE4-2CE44064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49E6-5296-4439-A051-4F7BF566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2AE2-01DB-4320-B0F6-B9A5F81D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2A7B-038A-46E2-939A-A3D33135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ACB0-CC20-439E-9E09-7618CBD9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7DD4-A0DA-4185-A35A-5D6A659B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D26A-0D9F-44C7-9874-EA8786625E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McCann Fitzgerald Solic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Corporate Department Con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19 September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covering Suspected Breach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ublic Compl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olumes: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00 in 2002; 250 so far in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ffences: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5% disclose no Company Law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1% relate to Civil Matters/Debt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5% are filing defa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9% cover a range of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tions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ny closed, others being ass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covering Suspected Breache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tters of Public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ibunal of Inquiry/Inspector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a Disclo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O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ter-Agency Co-oper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rda Sioch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Us planned with Revenue, IFSRA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secuting Detected Breach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riminal Enforcement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003 so f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victions: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20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40+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ffences: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iling to Keep Proper 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lsification of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discharged Bankru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rectors’ Lo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qualified Aud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rosecuting Detected Breach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Civil Enforcement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2003 so f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Compliance Order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  -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Disqualifications 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  -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Property Seizure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  -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Seeking Information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  2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Judicial Review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rosecuting Detected Breache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Investigations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2003 so f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Search Warrants  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  5  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Bankers’ Books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  7  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1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Arrests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  -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Detentions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  -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anctioning Improper Conduct in Insolvent Compani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Phased Commen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1 June 2002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: insolvent companies to which a liquidator was newly appointed or was appointed on or after 1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1 June 2003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: insolvent companies to which a liquidator was appointed on or after 1 Januar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nctioning Improper Conduct in Insolvent Compani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Volumes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003 so f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quidator Repor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7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41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ses Determine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4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ull Relie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47 (52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tial Relief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21 (4.4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lief at this tim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28 (5.8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Relie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175 (37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anctioning Improper Conduct in Insolvent Companie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Some Section 56 Reports under criminal invest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Notable Absence of Section 299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Unliquidated Insolvent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Restricted/Disqualified Dir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Supervision of Liquidators (Demands for 20+ 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Companies in Liquid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Quality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Informative Website at www.odce.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Publications (Annual Report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Complaint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Compliance Inform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Liaison Group with Account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Compliance Work is in continuing de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More Information on Misconduct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Completion of Investigations a prio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Liquidator Reporting, etc. well under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Resources will be kept under review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Office of the Director of Corporate Enforcement</a:t>
            </a: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The ODCE’s Developing R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Paul Appleby, Dir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Outline of Tal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The ODCE’s Five Strategic Goa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Progress to date under each Go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Conclusion – what lies ahe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Purpose underlying ODCE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Facilitating Sound Competitive Enter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Minimising Business R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Protecting Business/Governm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Enhancing Ireland’s Business Rep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Supporting Societal Cohe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100" spc="-1" strike="noStrike">
                <a:solidFill>
                  <a:srgbClr val="000000"/>
                </a:solidFill>
                <a:latin typeface="Times New Roman"/>
              </a:rPr>
              <a:t>The ODCE’s Principal Goal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Improving Company Law Complian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covering Suspected Breach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secuting Detected Bre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anctioning Improper Conduct in Insolvent 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iding Quality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Improving Company Law Complianc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blishing Accessibl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 Information Books on Obligations/Du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pe of Auditor Mandatory Reporting Requi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quidation-Related Functions of the OD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ltation Paper on Directors’ Lo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Improving Company Law Complianc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moting Comp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 of Presentations, Articl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aging with Business via Consultation Pa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site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 Enfor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Improving Company Law Complianc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roving Company Related Prov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ing the Company Law Review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sting the planned Irish Auditing and Accounting Supervisory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ising the Department of Enterprise Trade and Employment on Compliance/Enforcement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ngthening Professional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covering Suspected Breach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uditor Reports of Suspected Indictable Off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olumes: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400 in 2002; 1,000 so far in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ffences: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75% relate to Filing/Similar Off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5% are about Directors’ Lo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7% deal with Failing to hold EG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% relate to Inadequate 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tions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ling Offences referred to the 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of the rest are under invest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1T15:46:26Z</dcterms:created>
  <dc:creator>Denis Hosford</dc:creator>
  <dc:description/>
  <dc:language>en-US</dc:language>
  <cp:lastModifiedBy> </cp:lastModifiedBy>
  <dcterms:modified xsi:type="dcterms:W3CDTF">2003-09-18T17:21:06Z</dcterms:modified>
  <cp:revision>30</cp:revision>
  <dc:subject/>
  <dc:title>PowerPoint Presentation</dc:title>
</cp:coreProperties>
</file>