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3245-39B9-4937-8B21-47395ABC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3B9-D0B3-4D17-951F-72354413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A8C-65FB-4092-A48E-1BAC499A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A863-5C02-49F0-9B2E-293074E8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57E-2138-4CAD-BF2C-361E5441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00D1-F11C-4C64-B01D-6E966CAC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4B5-ED54-4144-B18B-BF417313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8DEC-BCA0-48FF-B44A-638C1604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9B1-5193-4A95-A09E-9780F9EB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196-17E0-4834-8374-E053AED0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B53-EF06-4C5B-9882-EF532B70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835D-0370-4686-8AC3-F614B1F0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266C-52FE-4C8C-B4A5-E045A3BC77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Corporate Governance and Administration Confere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Jury’s Hotel, Ballsbri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25 March 2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Directors</a:t>
            </a: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Duties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ling 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li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 in constitution of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 in registered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 of directors/secre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rease in Nominal/Issued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nual 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tgages and 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Directors</a:t>
            </a: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Duties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Burden of Pro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1963-2001: Burden with the Prosecutor to prove “knowing and wilful defaul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Now: Burden with the Defendant to prove that he took “all reasonable steps to prevent” defa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Investigative/Enforcement Rol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Main Triggers for Invest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Auditor Reports of Indictable Off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Liquidator Reports on Insolvent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Public Compl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Matters in the Public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Investigative/Enforcement Rol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Process of Investi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Collection of Evid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Decision-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Investigative/Enforcement Rol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Decision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Voluntary Comp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Insufficient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Civil Reme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Restriction/Disqual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Summary Pros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Prosecution on Indic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What to do if contacted by OD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Don’t Panic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May be no element of culp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Co-operat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Entitled to seek certain regist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Seek professional advice in case of dou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May require search warrant in other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Sources of Inform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www. odce .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About the OD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ODCE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ODCE Publications/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Legi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Court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Ensuring Compliance in Your </a:t>
            </a:r>
            <a:br>
              <a:rPr sz="4400"/>
            </a:b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Compan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Paul Apple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Director of Corporate E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Role of the OD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Interaction with Agencies/Professional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Directors’ Duties to ensure Comp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ODCE’s Investigative/Enforcement 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What to do if approached by OD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Role of the OD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Encouraging Comp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Uncovering Company Law Bre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Prosecuting Detected Bre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Sanctioning Improper Conduct in Insolvent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Delivering Quality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Interaction with Agencies/Bo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(1) Compli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Development of Guidance for Company Directors, Auditors, Liquidato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Promotion of Compliance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Legislative Change/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Interaction with Agencies/Bo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(2) Investigation/Enforc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Persons subject to a Reporting Obl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Information-Sharing Arrang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CRO, Courts, DPP’s Offic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Directors</a:t>
            </a: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Duties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The Company – a Separate Legal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General Duties of Dir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Act in the Company’s (not Personal)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Act with Due Care, Skill and Dili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Defined Legal Obligations/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Disclosure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Directors</a:t>
            </a: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Duties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ompany </a:t>
            </a: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cuments to be kept,</a:t>
            </a: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updated and made avail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gister of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gister of Directors and Secre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gister of Directors’/Secretary’s inte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gister of debenture 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rectors’ Service Con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nute Boo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Directors</a:t>
            </a: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Duties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asic Operational Oblig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eping 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per books of accou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lding 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nual general meeting (AG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irculating to 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bers before every AGM a signed copy of the balance 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she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, profit and loss account, director's and auditor's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lding an extraordinary general 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ing when circumstances requ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5:46:26Z</dcterms:created>
  <dc:creator>Denis Hosford</dc:creator>
  <dc:description/>
  <dc:language>en-US</dc:language>
  <cp:lastModifiedBy>Paul Appleby</cp:lastModifiedBy>
  <dcterms:modified xsi:type="dcterms:W3CDTF">2003-03-05T19:04:45Z</dcterms:modified>
  <cp:revision>23</cp:revision>
  <dc:subject/>
  <dc:title>PowerPoint Presentation</dc:title>
</cp:coreProperties>
</file>