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66765-EEEB-43BF-82AF-9619988F1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41FC-9170-4589-9CEF-54FD429D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EE2F9-C2E0-49BE-80C3-1D92F743B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EB4F1-1BED-40B9-8EA5-03E51A2C7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CCDCD-B3AF-4A6E-AC84-C037EFAEA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D4418-B128-4798-8D1C-BA92A5BD9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0A82-DBA3-4E85-BA5D-394CD8DC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3FC8A-ECCC-4E95-96C3-523815C1F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54A68-D338-49B9-88E0-7781448C6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AF1A-D4F2-4A47-AB33-7CC7769F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71E7-E35E-46EE-98F1-0D7675C4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9D79-A8E9-432C-9E40-F65F4BA25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9031-C6E4-479A-9AB2-2E29D411F5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ights and powers of shareholders and creditors e.g.:</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notice of, and attendance at, meeting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oting right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ight of access to certain information e.g. financial statement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ights regarding dividend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ight to petition for relief in cases of oppression</a:t>
            </a:r>
            <a:endParaRPr b="0" lang="en-US" sz="1800" spc="-1" strike="noStrike">
              <a:solidFill>
                <a:srgbClr val="000000"/>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respective roles and functions of auditors, liquidators and receivers</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consequences of non-complia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DCE website – www.odce.ie</a:t>
            </a:r>
            <a:endParaRPr b="0" lang="en-US" sz="2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uidance for directors</a:t>
            </a:r>
            <a:r>
              <a:rPr b="0" lang="en-IE" sz="2000" spc="-1" strike="noStrike">
                <a:solidFill>
                  <a:srgbClr val="000000"/>
                </a:solidFill>
                <a:latin typeface="Times New Roman"/>
              </a:rPr>
              <a:t> and secretaries</a:t>
            </a:r>
            <a:r>
              <a:rPr b="0" lang="en-GB" sz="2000" spc="-1" strike="noStrike">
                <a:solidFill>
                  <a:srgbClr val="000000"/>
                </a:solidFill>
                <a:latin typeface="Times New Roman"/>
              </a:rPr>
              <a:t>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ary on corporate governance best practice and access to main reports on the subj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blic notice information e.g. civil enforcement action, prosecutions, insolvenc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full complement of company law statutes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ormation on ODCE ser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DCE receives information regarding suspected non-compliance from a number of sources:</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laints from the publ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ies Registration Office referr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ditor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ccountancy/professional bodie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thorised officers’/inspectors’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ther sources with which ODCE has a relationship.</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CLEA 2001 introduced reporting obligations 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uditor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iquid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ccountancy/professional bodies (e.g. Law Society, Bar Council, Institute of Taxation etc.)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uditors:</a:t>
            </a:r>
            <a:r>
              <a:rPr b="0" lang="en-IE" sz="2000" spc="-1" strike="noStrike">
                <a:solidFill>
                  <a:srgbClr val="000000"/>
                </a:solidFill>
                <a:latin typeface="Times New Roman"/>
              </a:rPr>
              <a:t>	</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spected indictable offences</a:t>
            </a:r>
            <a:endParaRPr b="0" lang="en-US" sz="1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iquidators:</a:t>
            </a:r>
            <a:r>
              <a:rPr b="0" lang="en-IE" sz="2000" spc="-1" strike="noStrike">
                <a:solidFill>
                  <a:srgbClr val="000000"/>
                </a:solidFill>
                <a:latin typeface="Times New Roman"/>
              </a:rPr>
              <a:t>	</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port on the conduct of company directors</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porting of suspected criminal offences to the Director &amp; the DPP</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ccountancy/Professional Bodies:</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spected indictable offences by auditors, liquidators and receivers</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of a liquidator or receiver to maintain appropriate reco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bligation applies to indictable offences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oes not apply to accountants’ non-audit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owever, </a:t>
            </a:r>
            <a:r>
              <a:rPr b="1" lang="en-IE" sz="2000" spc="-1" strike="noStrike">
                <a:solidFill>
                  <a:srgbClr val="000000"/>
                </a:solidFill>
                <a:latin typeface="Times New Roman"/>
              </a:rPr>
              <a:t>auditors</a:t>
            </a:r>
            <a:r>
              <a:rPr b="0" lang="en-IE" sz="2000" spc="-1" strike="noStrike">
                <a:solidFill>
                  <a:srgbClr val="000000"/>
                </a:solidFill>
                <a:latin typeface="Times New Roman"/>
              </a:rPr>
              <a:t> must have regard for matters coming to attention </a:t>
            </a:r>
            <a:r>
              <a:rPr b="1" lang="en-IE" sz="2000" spc="-1" strike="noStrike">
                <a:solidFill>
                  <a:srgbClr val="000000"/>
                </a:solidFill>
                <a:latin typeface="Times New Roman"/>
              </a:rPr>
              <a:t>during the course of non-audit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 requirement to </a:t>
            </a:r>
            <a:r>
              <a:rPr b="1" lang="en-IE" sz="2000" spc="-1" strike="noStrike">
                <a:solidFill>
                  <a:srgbClr val="000000"/>
                </a:solidFill>
                <a:latin typeface="Times New Roman"/>
              </a:rPr>
              <a:t>seek out</a:t>
            </a:r>
            <a:r>
              <a:rPr b="0" lang="en-IE" sz="2000" spc="-1" strike="noStrike">
                <a:solidFill>
                  <a:srgbClr val="000000"/>
                </a:solidFill>
                <a:latin typeface="Times New Roman"/>
              </a:rPr>
              <a:t> offences (over and above normal audit procedures). However, auditors are </a:t>
            </a:r>
            <a:r>
              <a:rPr b="1" lang="en-IE" sz="2000" spc="-1" strike="noStrike">
                <a:solidFill>
                  <a:srgbClr val="000000"/>
                </a:solidFill>
                <a:latin typeface="Times New Roman"/>
              </a:rPr>
              <a:t>expected to react</a:t>
            </a:r>
            <a:r>
              <a:rPr b="0" lang="en-IE" sz="2000" spc="-1" strike="noStrike">
                <a:solidFill>
                  <a:srgbClr val="000000"/>
                </a:solidFill>
                <a:latin typeface="Times New Roman"/>
              </a:rPr>
              <a:t> to information coming to their not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AS 120 and 620 of particular relev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making their reports, auditors are required to furnish the following:</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the subject (i.e. company or person(s)) of the re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ther the matter has been discussed with the directo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the suspected off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the grounds for the auditor’s opin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text of the report e.g. the extent of the investigations that have been conducted by the auditor, whether the matter has been rectified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furnishing details of the grounds for their opinions, auditors should provide sufficient information to ‘</a:t>
            </a:r>
            <a:r>
              <a:rPr b="0" i="1" lang="en-IE" sz="2000" spc="-1" strike="noStrike">
                <a:solidFill>
                  <a:srgbClr val="000000"/>
                </a:solidFill>
                <a:latin typeface="Times New Roman"/>
              </a:rPr>
              <a:t>facilitate appropriate action</a:t>
            </a:r>
            <a:r>
              <a:rPr b="0" lang="en-IE" sz="2000" spc="-1" strike="noStrike">
                <a:solidFill>
                  <a:srgbClr val="000000"/>
                </a:solidFill>
                <a:latin typeface="Times New Roman"/>
              </a:rPr>
              <a:t>’ by the Director (SAS 620.5).</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insufficient information is provided, ODCE will seek elaboration. Non-compliance with obligations is an offence and ODCE may, in addition to appropriate enforcement action, consider involving the relevant professional body.</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Joint guidance issued by ODCE, APB and the CCAB-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ors’ Duty to Report</a:t>
            </a:r>
            <a:br>
              <a:rPr sz="4000"/>
            </a:br>
            <a:r>
              <a:rPr b="0" lang="en-IE" sz="4000" spc="-1" strike="noStrike">
                <a:solidFill>
                  <a:srgbClr val="000000"/>
                </a:solidFill>
                <a:latin typeface="Times New Roman"/>
              </a:rPr>
              <a:t>under S194(5) CA, 1990</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 at the end of January 2003:</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489 reports recei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64% of those reports received from ‘Big 4’ fir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ports contain 663 suspected off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f which:</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81% relate to filing offenc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6% relate to breaches of directors’ loans provisio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6% relate to failure to convene EGMs under S40(1) CA, 1983</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Liquidators’ Obligation to Report under S56 CLEA 2001</a:t>
            </a:r>
            <a:r>
              <a:rPr b="0" lang="en-I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lies to liquidators of </a:t>
            </a:r>
            <a:r>
              <a:rPr b="1" lang="en-IE" sz="2000" spc="-1" strike="noStrike">
                <a:solidFill>
                  <a:srgbClr val="000000"/>
                </a:solidFill>
                <a:latin typeface="Times New Roman"/>
              </a:rPr>
              <a:t>insolvent</a:t>
            </a:r>
            <a:r>
              <a:rPr b="0" lang="en-IE" sz="2000" spc="-1" strike="noStrike">
                <a:solidFill>
                  <a:srgbClr val="000000"/>
                </a:solidFill>
                <a:latin typeface="Times New Roman"/>
              </a:rPr>
              <a:t> companies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quired to report within 6 months of appointment and thereafter as designated by the Direc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ports must express an opinion as to whether the directors (and shadow directors) have acted honestly and responsibly prior to the insolv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nless the Director is satisfied that the directors have acted in an honest and responsible manner, the liquidator is required to seek the restriction of the directors in the High Cou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urt can award costs against the restricted individu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4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The Role and Powers of the</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Director of Corporate Enforcement </a:t>
            </a:r>
            <a:endParaRPr b="0" lang="en-US" sz="3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resentation to ACC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District Society Members</a:t>
            </a: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an Drennan FC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liance Manager, ODC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Liquidators’ Obligation to Report under S56 CLEA 2001</a:t>
            </a:r>
            <a:endParaRPr b="0" lang="en-US" sz="4000" spc="-1" strike="noStrike">
              <a:solidFill>
                <a:srgbClr val="000000"/>
              </a:solidFill>
              <a:latin typeface="Times New Roman"/>
            </a:endParaRPr>
          </a:p>
        </p:txBody>
      </p:sp>
      <p:sp>
        <p:nvSpPr>
          <p:cNvPr id="78"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detai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ype of liquid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ate of appoint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y detai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s’ detai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opinion as to whether each director acted honestly and responsibly in the conduct of the company’s affairs</a:t>
            </a:r>
            <a:endParaRPr b="0" lang="en-US" sz="2000" spc="-1" strike="noStrike">
              <a:solidFill>
                <a:srgbClr val="000000"/>
              </a:solidFill>
              <a:latin typeface="Times New Roman"/>
            </a:endParaRPr>
          </a:p>
        </p:txBody>
      </p:sp>
      <p:sp>
        <p:nvSpPr>
          <p:cNvPr id="79"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tatement of affair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dited financial statement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port to creditors (including of minutes of creditors’ meeting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ther the liquidator intends to apply for restriction or disqualifica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tails of any other civil or criminal proceedings in train or anticipat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esence of any criminal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Liquidators’ Obligation to Report under S56 CLEA 2001</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 at end of January, 2003:</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roximately 300 reports had been recei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f which, approximately 50% have sought exemptions (i.e. approximately 150 liquidato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f the 150 not seeking exemption, approximately 75 have been found to merit further investi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relatively small number of reports suggest serious criminal activity e.g. fraud etc.</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ore Common Breach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n the basis of information coming to ODCE attention the following are some of the more common breaches:</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to file returns with the C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llegal transactions with directors e.g. breaches of directors’ loans provisions (see Appendix 2 for further inform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by directors to hold AGMs and/or EG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to keep proper books of accou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rading while insolv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unqualified auditor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ow are matters coming to ODCE attention dealt with?</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xamination of available material and preliminary evaluation of the facts – is there a </a:t>
            </a:r>
            <a:r>
              <a:rPr b="0" i="1" lang="en-IE" sz="2000" spc="-1" strike="noStrike">
                <a:solidFill>
                  <a:srgbClr val="000000"/>
                </a:solidFill>
                <a:latin typeface="Times New Roman"/>
              </a:rPr>
              <a:t>prima facie</a:t>
            </a:r>
            <a:r>
              <a:rPr b="0" lang="en-IE" sz="2000" spc="-1" strike="noStrike">
                <a:solidFill>
                  <a:srgbClr val="000000"/>
                </a:solidFill>
                <a:latin typeface="Times New Roman"/>
              </a:rPr>
              <a:t> case to answ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so, further investigations will be conducted including e.g. correspondence, searches, interviews and taking of statement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ropriate enforcement action selected and purs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 Option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DCE has a number of enforcement options open to it depending on circumstances. These includ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eeking voluntary compli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mposition of fin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itiation of investigations (directly or via the Cou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ivil remedies e.g. injunctions, applications for restriction, disqualification, imposition of personal liability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riminal prosecution (summary or on indict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ferral to other enforcement agenc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pervision of </a:t>
            </a:r>
            <a:br>
              <a:rPr sz="4400"/>
            </a:br>
            <a:r>
              <a:rPr b="0" lang="en-IE" sz="4400" spc="-1" strike="noStrike">
                <a:solidFill>
                  <a:srgbClr val="000000"/>
                </a:solidFill>
                <a:latin typeface="Times New Roman"/>
              </a:rPr>
              <a:t>Liquidators and Receiver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Director:</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ceives a copy of each notice of appointment of a liquidator or receiver filed with the Registrar of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y require production of a liquidator’s/receiver’s books and record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y seek explanations of their conduc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Admininstrative fines</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ximum €500 (probab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pon service of notice specifying the breach(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 prosecution will ensue where the fine is paid and the default is remedied within the prescribed time period (21 day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38052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Civil Enforc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addition to the criminal sanctions provided for under the Acts, there are a number of civil sanctions and remedies available e.g.:</a:t>
            </a:r>
            <a:endParaRPr b="0" lang="en-US" sz="2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rvice of notice to comply with obligations (injun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k restric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k disqualific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k the imposition of unlimited liability for debts and liabilities of a company.</a:t>
            </a:r>
            <a:endParaRPr b="0" lang="en-US" sz="18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e Appendix 3 for further detail.</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Prosecu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general, maximum penalties under the Companies Acts ar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1,900 and/or 12 months imprisonment on summary conviction, a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12,700 and/or 5 years imprisonment on conviction on indictment (any offence for which the maximum sentence is 5 years or more is an arrestable off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sequences of Non-Complianc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ignificantly higher penalties are available for certain offences e.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raudulent trading: €63,500 and/or 7 years, a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sider dealing: €254,000 and/or 10 yea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esentation 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05120"/>
            <a:ext cx="7772400" cy="3200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LEA – principal provis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unctions of the OD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uditors’ Duty to Repo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quidators’ Duty to Repo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sequences of Non-Compli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kely Future Develop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end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ikely Future Development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ew Companies Act 2003 (flowing primarily from the Review Group on Auditing)</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stablishment on a statutory basis of IAASA.</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troduction of a directors’ compliance statement.</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solidation of the Companies Acts and more regular legislation.</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crease in the audit exemption threshold (being examined by CL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End of Presentation</a:t>
            </a:r>
            <a:r>
              <a:rPr b="1"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u="sng">
                <a:solidFill>
                  <a:srgbClr val="000000"/>
                </a:solidFill>
                <a:uFillTx/>
                <a:latin typeface="Times New Roman"/>
              </a:rPr>
              <a:t>Appendix 1</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mpany Directors’ Duties comprise:</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common law duties, and;</a:t>
            </a:r>
            <a:endParaRPr b="0" lang="en-US" sz="2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statutory dutie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rectors’ Common Law Dutie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must exercise their powers in good faith in the interests of the company as a who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must perform their duties with due care, skill and dilig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are not permitted to make undisclosed profits from their position as direct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rectors’ Statutory Du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ain statutory duties include:</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intenance of Regist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ling oblig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perational dut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ccounting related du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gisters etc.</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Directors and Secret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Directors’ and Secretary’s interests (in the company and related compan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Memb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gister of Debenture hol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service contra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inutes of board, board sub-committee and general meet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iling Obligat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anies are required to file certain documents with the CRO, including e.g.:</a:t>
            </a:r>
            <a:endParaRPr b="0" lang="en-US" sz="2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nual Retur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inancial Statements (full or abridged, dependent on company siz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hanges in directors and secret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ortgages and charg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hange in registered off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ertain resolu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perational Dutie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quired to hold AGM (every 15 months maximu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old EGMs where necessary e.g. where the net assets of the company are less than half the called up share capit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vide members with required notice of meetings and, prior to AGM, furnish members with a copy of the financial stat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ccounting Related Duti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aintain proper books of account which</a:t>
            </a:r>
            <a:endParaRPr b="0" lang="en-US" sz="3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rrectly record and explain the company’s transa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t any time, enable the financial position of the company to be determined with accurac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nable the directors to ensure that the financial statements comply with Companies Acts require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llow the financial statements to be  readily and properly audit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Note: Auditors are required to report to the CRO where proper books are not being (or have not been) maintained (CRO Form H4).</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epare annual financial statements:</a:t>
            </a:r>
            <a:endParaRPr b="0" lang="en-US" sz="2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s’ Re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fit &amp; Loss Accou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alance She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ashflow Statement (where applic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tes to the financial statement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Have financial statements audited (subject to excep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LEA - Principal Provision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tent flows largely from the McDowell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stablished the OD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ransferred Minister’s powers to the the Direc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troduced the concept of an 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troduced certain reporting obligations on auditors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mended the provisions governing transactions with directo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stablished the CLRG on a statutory foo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u="sng">
                <a:solidFill>
                  <a:srgbClr val="000000"/>
                </a:solidFill>
                <a:uFillTx/>
                <a:latin typeface="Times New Roman"/>
              </a:rPr>
              <a:t>Appendix 2</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in Provisions Relating to Transactions with Direct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29 CA, 1990 – Substantial Property Transac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31 CA, 1990 </a:t>
            </a:r>
            <a:r>
              <a:rPr b="0" i="1" lang="en-IE" sz="2400" spc="-1" strike="noStrike">
                <a:solidFill>
                  <a:srgbClr val="000000"/>
                </a:solidFill>
                <a:latin typeface="Times New Roman"/>
              </a:rPr>
              <a:t>et seq.</a:t>
            </a:r>
            <a:r>
              <a:rPr b="0" lang="en-IE" sz="2400" spc="-1" strike="noStrike">
                <a:solidFill>
                  <a:srgbClr val="000000"/>
                </a:solidFill>
                <a:latin typeface="Times New Roman"/>
              </a:rPr>
              <a:t> – Prohibition on loans etc. to directo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bstantial Property Transact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re a director of a company (or a person connected with that director):</a:t>
            </a:r>
            <a:endParaRPr b="0"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urchases an asset from, or sells an asset to, the company, 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value of that asset exceeds €63,500 or 10% of the company’s ‘relevant assets’, </a:t>
            </a:r>
            <a:endParaRPr b="0"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ransaction must be approved </a:t>
            </a:r>
            <a:r>
              <a:rPr b="0" lang="en-IE" sz="2400" spc="-1" strike="noStrike" u="sng">
                <a:solidFill>
                  <a:srgbClr val="000000"/>
                </a:solidFill>
                <a:uFillTx/>
                <a:latin typeface="Times New Roman"/>
              </a:rPr>
              <a:t>in advance</a:t>
            </a:r>
            <a:r>
              <a:rPr b="0" lang="en-IE" sz="2400" spc="-1" strike="noStrike">
                <a:solidFill>
                  <a:srgbClr val="000000"/>
                </a:solidFill>
                <a:latin typeface="Times New Roman"/>
              </a:rPr>
              <a:t> by the shareholders in a general meeting of the compan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hibition on Loans etc.</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general, a company is </a:t>
            </a:r>
            <a:r>
              <a:rPr b="0" lang="en-IE" sz="2000" spc="-1" strike="noStrike" u="sng">
                <a:solidFill>
                  <a:srgbClr val="000000"/>
                </a:solidFill>
                <a:uFillTx/>
                <a:latin typeface="Times New Roman"/>
              </a:rPr>
              <a:t>prohibited</a:t>
            </a:r>
            <a:r>
              <a:rPr b="0" lang="en-IE" sz="2000" spc="-1" strike="noStrike">
                <a:solidFill>
                  <a:srgbClr val="000000"/>
                </a:solidFill>
                <a:latin typeface="Times New Roman"/>
              </a:rPr>
              <a:t> from making a loan or quasi-loan to a director (or person connected to that director) (S31 CA, 199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imilarly, a company is generally </a:t>
            </a:r>
            <a:r>
              <a:rPr b="0" lang="en-IE" sz="2000" spc="-1" strike="noStrike" u="sng">
                <a:solidFill>
                  <a:srgbClr val="000000"/>
                </a:solidFill>
                <a:uFillTx/>
                <a:latin typeface="Times New Roman"/>
              </a:rPr>
              <a:t>prohibited</a:t>
            </a:r>
            <a:r>
              <a:rPr b="0" lang="en-IE" sz="2000" spc="-1" strike="noStrike">
                <a:solidFill>
                  <a:srgbClr val="000000"/>
                </a:solidFill>
                <a:latin typeface="Times New Roman"/>
              </a:rPr>
              <a:t> from entering into a credit transaction as creditor for a director, entering into a guarantee on behalf of a director (or person connected to the director) or from providing security in respect of a loan or quasi-loan etc. to a direct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re are, however, a number of exceptions to the abo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hibition on Loans etc.</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ptions to general prohibition on loans etc.:</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prohibition on directors’ loans, quasi-loans and credit transactions does </a:t>
            </a:r>
            <a:r>
              <a:rPr b="0" lang="en-IE" sz="2000" spc="-1" strike="noStrike" u="sng">
                <a:solidFill>
                  <a:srgbClr val="000000"/>
                </a:solidFill>
                <a:uFillTx/>
                <a:latin typeface="Times New Roman"/>
              </a:rPr>
              <a:t>not apply</a:t>
            </a:r>
            <a:r>
              <a:rPr b="0" lang="en-IE" sz="2000" spc="-1" strike="noStrike">
                <a:solidFill>
                  <a:srgbClr val="000000"/>
                </a:solidFill>
                <a:latin typeface="Times New Roman"/>
              </a:rPr>
              <a:t> where the aggregate value of the loan(s) is less than:</a:t>
            </a:r>
            <a:endParaRPr b="0" lang="en-US" sz="20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10% of the company’s ‘relevant assets’.</a:t>
            </a:r>
            <a:endParaRPr b="0" lang="en-US" sz="2000" spc="-1" strike="noStrike">
              <a:solidFill>
                <a:srgbClr val="000000"/>
              </a:solidFill>
              <a:latin typeface="Times New Roman"/>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1" lang="en-IE" sz="2000" spc="-1" strike="noStrike">
                <a:solidFill>
                  <a:srgbClr val="000000"/>
                </a:solidFill>
                <a:latin typeface="Times New Roman"/>
              </a:rPr>
              <a:t>NB: this exception applies to loans, quasi-loans and credit transactions only i.e. it </a:t>
            </a:r>
            <a:r>
              <a:rPr b="1" lang="en-IE" sz="2000" spc="-1" strike="noStrike" u="sng">
                <a:solidFill>
                  <a:srgbClr val="000000"/>
                </a:solidFill>
                <a:uFillTx/>
                <a:latin typeface="Times New Roman"/>
              </a:rPr>
              <a:t>does not</a:t>
            </a:r>
            <a:r>
              <a:rPr b="1" lang="en-IE" sz="2000" spc="-1" strike="noStrike">
                <a:solidFill>
                  <a:srgbClr val="000000"/>
                </a:solidFill>
                <a:latin typeface="Times New Roman"/>
              </a:rPr>
              <a:t> apply to the granting of guarantees and/or the provision of securities by the compa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hibition on Loans etc.</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ompany’s ‘relevant assets’ a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company’s net assets as shown in the last preceding financial statements to have been laid before an AGM of the company, o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there are no last preceding financial statements, or where they have not been laid before an AGM, the company’s called up share capit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actions with Director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ptions to general prohibition on loans etc.:</a:t>
            </a:r>
            <a:endParaRPr b="0" lang="en-US" sz="24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company is not precluded from entering into a guarantee or providing security for a loan if the granting of the guarantee or security has been pre-approved by a special resolution of the sharehold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shareholders must be provided in advance of the meeting with full details of the transaction and the directors must express the opinion that the transaction will not affect the company’s ability to pay its debts as they fall due. Auditors must report thereon.</a:t>
            </a:r>
            <a:endParaRPr b="0" lang="en-US" sz="20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actions with Director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ptions to general prohibition on loans etc.:</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oans between group companies are permit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s’ expenses are excluded for the prohibi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usiness transactions are also excluded e.g. where the company’s ordinary business involves granting loa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actions with Director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reach of the provisions relating to directors’ loans etc. is a criminal offence (indictable and therefore reporta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ivil consequences of breaching either the substantial property transactions provisions or the directors’ loans provisions include having 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ccount to the company for any gain made, and;</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demnify the company for any loss or damage suffered.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u="sng">
                <a:solidFill>
                  <a:srgbClr val="000000"/>
                </a:solidFill>
                <a:uFillTx/>
                <a:latin typeface="Times New Roman"/>
              </a:rPr>
              <a:t>Appendix 3</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ivil injun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stri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squalif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xamples of Civil Injunction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Section 371 CA, 1963 Procedur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quires the making good of </a:t>
            </a:r>
            <a:r>
              <a:rPr b="0" lang="en-IE" sz="1800" spc="-1" strike="noStrike" u="sng">
                <a:solidFill>
                  <a:srgbClr val="000000"/>
                </a:solidFill>
                <a:uFillTx/>
                <a:latin typeface="Times New Roman"/>
              </a:rPr>
              <a:t>any</a:t>
            </a:r>
            <a:r>
              <a:rPr b="0" lang="en-IE" sz="1800" spc="-1" strike="noStrike">
                <a:solidFill>
                  <a:srgbClr val="000000"/>
                </a:solidFill>
                <a:latin typeface="Times New Roman"/>
              </a:rPr>
              <a:t> default under the Acts (therefore a very powerful too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rvice of 14 days notice by OD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ailure to comply with notice - application before the High Cour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ntinued failure to comply will result in the incurring of High Court costs.</a:t>
            </a:r>
            <a:endParaRPr b="0" lang="en-US" sz="18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imes New Roman"/>
              </a:rPr>
              <a:t>Section 131 CA, 1963 Proced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DCE can, on the application of any member, call or direct the holding of an AG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ailure to comply is an off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verview of the ODC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depend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37 staf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vided into 5 Units:</a:t>
            </a:r>
            <a:endParaRPr b="0" lang="en-US" sz="2400" spc="-1" strike="noStrike">
              <a:solidFill>
                <a:srgbClr val="000000"/>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liance</a:t>
            </a:r>
            <a:r>
              <a:rPr b="0" lang="en-IE" sz="2000" spc="-1" strike="noStrike">
                <a:solidFill>
                  <a:srgbClr val="000000"/>
                </a:solidFill>
                <a:latin typeface="Times New Roman"/>
              </a:rPr>
              <a:t>	</a:t>
            </a:r>
            <a:r>
              <a:rPr b="0" lang="en-IE" sz="2000" spc="-1" strike="noStrike">
                <a:solidFill>
                  <a:srgbClr val="000000"/>
                </a:solidFill>
                <a:latin typeface="Times New Roman"/>
              </a:rPr>
              <a:t>- Enforc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vestigations</a:t>
            </a:r>
            <a:r>
              <a:rPr b="0" lang="en-IE" sz="2000" spc="-1" strike="noStrike">
                <a:solidFill>
                  <a:srgbClr val="000000"/>
                </a:solidFill>
                <a:latin typeface="Times New Roman"/>
              </a:rPr>
              <a:t>	</a:t>
            </a:r>
            <a:r>
              <a:rPr b="0" lang="en-IE" sz="2000" spc="-1" strike="noStrike">
                <a:solidFill>
                  <a:srgbClr val="000000"/>
                </a:solidFill>
                <a:latin typeface="Times New Roman"/>
              </a:rPr>
              <a:t>- Corporate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solvency</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stric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vision for the restriction of directors (and secretaries) was originally introduced by S150, CA 199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150 allowed, </a:t>
            </a:r>
            <a:r>
              <a:rPr b="0" lang="en-IE" sz="2000" spc="-1" strike="noStrike" u="sng">
                <a:solidFill>
                  <a:srgbClr val="000000"/>
                </a:solidFill>
                <a:uFillTx/>
                <a:latin typeface="Times New Roman"/>
              </a:rPr>
              <a:t>but did not require</a:t>
            </a:r>
            <a:r>
              <a:rPr b="0" lang="en-IE" sz="2000" spc="-1" strike="noStrike">
                <a:solidFill>
                  <a:srgbClr val="000000"/>
                </a:solidFill>
                <a:latin typeface="Times New Roman"/>
              </a:rPr>
              <a:t>, liquidators of insolvent companies to apply for the restriction of company directo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LEA 2001 requires the liquidators of insolvent companies to apply for the restriction of the directors unless relieved of the oblig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rector can also apply for restriction 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striction</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aver where a person can demonstrate that they have </a:t>
            </a:r>
            <a:r>
              <a:rPr b="0" i="1" lang="en-IE" sz="2000" spc="-1" strike="noStrike">
                <a:solidFill>
                  <a:srgbClr val="000000"/>
                </a:solidFill>
                <a:latin typeface="Times New Roman"/>
              </a:rPr>
              <a:t>acted honestly and responsib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striction orders last for 5 yea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ies having a director or secretary who is restricted must satisfy certain criteria: i.e.</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 </a:t>
            </a:r>
            <a:r>
              <a:rPr b="0" lang="en-IE" sz="1800" spc="-1" strike="noStrike">
                <a:solidFill>
                  <a:srgbClr val="000000"/>
                </a:solidFill>
                <a:latin typeface="Times New Roman"/>
              </a:rPr>
              <a:t>- minimum fully paid up share capital of €63k (€317 for plcs), an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 </a:t>
            </a:r>
            <a:r>
              <a:rPr b="0" lang="en-IE" sz="1800" spc="-1" strike="noStrike">
                <a:solidFill>
                  <a:srgbClr val="000000"/>
                </a:solidFill>
                <a:latin typeface="Times New Roman"/>
              </a:rPr>
              <a:t>- each share must be paid for in </a:t>
            </a:r>
            <a:r>
              <a:rPr b="0" lang="en-IE" sz="1800" spc="-1" strike="noStrike" u="sng">
                <a:solidFill>
                  <a:srgbClr val="000000"/>
                </a:solidFill>
                <a:uFillTx/>
                <a:latin typeface="Times New Roman"/>
              </a:rPr>
              <a:t>cash</a:t>
            </a:r>
            <a:r>
              <a:rPr b="0" lang="en-IE"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squalification</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vision for disqualification was originally introduced by S160, CA 1990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ersons subject to a disqualification order are precluded from acting as director, secretary, auditor, liquidator, receiver or examin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squalification can be automatic or discretionary, depending on circumstances</a:t>
            </a:r>
            <a:r>
              <a:rPr b="0" i="1" lang="en-IE" sz="2000" spc="-1" strike="noStrike">
                <a:solidFill>
                  <a:srgbClr val="000000"/>
                </a:solidFill>
                <a:latin typeface="Times New Roman"/>
              </a:rPr>
              <a:t>.</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asts for 5 yea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squalification</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squalification is </a:t>
            </a:r>
            <a:r>
              <a:rPr b="0" lang="en-IE" sz="2000" spc="-1" strike="noStrike" u="sng">
                <a:solidFill>
                  <a:srgbClr val="000000"/>
                </a:solidFill>
                <a:uFillTx/>
                <a:latin typeface="Times New Roman"/>
              </a:rPr>
              <a:t>automatic</a:t>
            </a:r>
            <a:r>
              <a:rPr b="0" lang="en-IE" sz="2000" spc="-1" strike="noStrike">
                <a:solidFill>
                  <a:srgbClr val="000000"/>
                </a:solidFill>
                <a:latin typeface="Times New Roman"/>
              </a:rPr>
              <a:t> in the following circumstan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n individual is convicted on indictment of any indictable offence relating to a company or involving fraud or dishonest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 person is convicted of acting in contravention of a restriction order (also a criminal off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 person is convicted of acting in contravention of a disqualification order – disqualification is extended for a further 10 years (also a criminal off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squalification</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Court has the discretion to issue a disqualification ord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a person involved in a company has been guilty of, </a:t>
            </a:r>
            <a:r>
              <a:rPr b="0" i="1" lang="en-IE" sz="2000" spc="-1" strike="noStrike">
                <a:solidFill>
                  <a:srgbClr val="000000"/>
                </a:solidFill>
                <a:latin typeface="Times New Roman"/>
              </a:rPr>
              <a:t>inter alia</a:t>
            </a:r>
            <a:r>
              <a:rPr b="0" lang="en-I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fraud in relation to the company, its members or credito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breach of duty in relation to the compan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ersistent default in relation to CA obligations (defined as three defaults in a five year perio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wo or more counts of failure to maintain proper books of accou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ckless trad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raudulent trad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End of Appendi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nctions of the ODC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broad terms, under the Company Law Enforcement Act 2001, the Director is responsible for:</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ncouraging compliance with the Companies Act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nforcing the law in instances of non-compliance, a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ndertaking a supervisory role in relation to liquidators and receiv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any law is complex and voluminou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istorically, non-compliance with company law has been high in Irela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is has, in part, been due to the lack of clear, accessable guidance to participants in compani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ddressing this information deficiency is an ODCE pri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information deficit is being addressed through:</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ducat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ssue of information and guidance publication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rovision of an ODCE information servic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ngaging with professional and business representative bodies with a view to facilitating and promoting compli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couraging Complia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formation Books – provide guidance on:</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incipal duties and obligations of company directors and secretaries (see also Appendix 1) e.g.</a:t>
            </a: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tatutory registers and minut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books of accoun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inancial statements and audi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eetings, notice etc.</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iling obligatio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ransactions with director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administrator</cp:lastModifiedBy>
  <dcterms:modified xsi:type="dcterms:W3CDTF">2003-03-06T11:14:34Z</dcterms:modified>
  <cp:revision>760</cp:revision>
  <dc:subject/>
  <dc:title>PowerPoint Presentation</dc:title>
</cp:coreProperties>
</file>